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19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54E6-4ACF-466E-ADA9-C4C53446F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F221-F55D-4EAC-83C6-B85BD07E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3A9B-4EDC-4F7E-9A22-DC785AF1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57BE-04C5-469A-BA39-30383B9C7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B819-E37F-473E-B4E5-EEB7D3C5F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C246-A1DF-49F8-9F8E-D50C92598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1EDA-7AD1-48DE-99D7-848377874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721B-3137-4932-A77E-B4DF54F83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E758-D1B4-4B45-8041-991B3D732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52E3-1CFF-4103-9D36-5A755A5AA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4045-2FB6-4F41-8428-13D56ED96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6B6B-B5B2-458F-9D71-8BCD484B8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9BD6-9E5E-4090-9FF5-E3263FFB7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2A47-7509-4856-98A4-86D2319B2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FA76-6F27-4E22-9ADB-511DFC8E5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93F8-485B-47D7-BFD0-B8FB84D44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A87A-E7A2-461F-94E3-D22D0BF6FCFC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/a_AgenceF&#231;se%20S&#233;cuAlim/0_0J&#233;e%2019D&#233;c/_format%20Harmo/pr%25C3%25A9sentaBrutes/Anne%20Steenhout%20.ppt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atibouw 2007 - Semaine du Logement Durable - Construction &amp; Rénovation durables / Plus de bien-être dans son logement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Que peut apporter </a:t>
            </a:r>
            <a:br>
              <a:rPr sz="4000"/>
            </a:b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une approche intégrée environnement-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logement-santé</a:t>
            </a: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dans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le cas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des enfants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076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G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roupe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d’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E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tude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E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cotoxicologique sur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les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P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olluants,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Anne Steenhou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la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S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anté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et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les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I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mpacts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sur</a:t>
            </a:r>
            <a:r>
              <a:rPr b="0" lang="fr-BE" sz="1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l’</a:t>
            </a:r>
            <a:r>
              <a:rPr b="1" lang="fr-BE" sz="2400" spc="-1" strike="noStrike">
                <a:solidFill>
                  <a:srgbClr val="003399"/>
                </a:solidFill>
                <a:latin typeface="Arial Narrow"/>
              </a:rPr>
              <a:t>H</a:t>
            </a: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omm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Faculté des Sciences (Igeat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 Narrow"/>
              </a:rPr>
              <a:t>Université Libre de Bruxell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7236000" y="5084640"/>
            <a:ext cx="1583640" cy="792360"/>
            <a:chOff x="7236000" y="5084640"/>
            <a:chExt cx="1583640" cy="792360"/>
          </a:xfrm>
        </p:grpSpPr>
        <p:pic>
          <p:nvPicPr>
            <p:cNvPr id="49" name="Picture 6" descr="ulb_bleu"/>
            <p:cNvPicPr/>
            <p:nvPr/>
          </p:nvPicPr>
          <p:blipFill>
            <a:blip r:embed="rId1"/>
            <a:stretch/>
          </p:blipFill>
          <p:spPr>
            <a:xfrm>
              <a:off x="7504920" y="5221080"/>
              <a:ext cx="657360" cy="655560"/>
            </a:xfrm>
            <a:prstGeom prst="rect">
              <a:avLst/>
            </a:prstGeom>
            <a:ln w="9360">
              <a:solidFill>
                <a:srgbClr val="003399"/>
              </a:solidFill>
              <a:miter/>
            </a:ln>
          </p:spPr>
        </p:pic>
        <p:sp>
          <p:nvSpPr>
            <p:cNvPr id="50" name="Rectangle 7"/>
            <p:cNvSpPr/>
            <p:nvPr/>
          </p:nvSpPr>
          <p:spPr>
            <a:xfrm>
              <a:off x="8162280" y="5289120"/>
              <a:ext cx="657360" cy="58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82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 Narrow"/>
                  <a:ea typeface="ＭＳ Ｐゴシック"/>
                </a:rPr>
                <a:t>GEEPS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8" descr=""/>
            <p:cNvPicPr/>
            <p:nvPr/>
          </p:nvPicPr>
          <p:blipFill>
            <a:blip r:embed="rId2"/>
            <a:stretch/>
          </p:blipFill>
          <p:spPr>
            <a:xfrm>
              <a:off x="7504920" y="5084640"/>
              <a:ext cx="1314720" cy="204480"/>
            </a:xfrm>
            <a:prstGeom prst="rect">
              <a:avLst/>
            </a:prstGeom>
            <a:ln w="9360">
              <a:solidFill>
                <a:srgbClr val="003399"/>
              </a:solidFill>
              <a:miter/>
            </a:ln>
          </p:spPr>
        </p:pic>
        <p:pic>
          <p:nvPicPr>
            <p:cNvPr id="52" name="Picture 9" descr=""/>
            <p:cNvPicPr/>
            <p:nvPr/>
          </p:nvPicPr>
          <p:blipFill>
            <a:blip r:embed="rId3"/>
            <a:stretch/>
          </p:blipFill>
          <p:spPr>
            <a:xfrm>
              <a:off x="7236000" y="5084640"/>
              <a:ext cx="268920" cy="792360"/>
            </a:xfrm>
            <a:prstGeom prst="rect">
              <a:avLst/>
            </a:prstGeom>
            <a:ln w="9360">
              <a:solidFill>
                <a:srgbClr val="0033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1D0F-320F-4DAC-8354-EFEB31320099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Etudes en chambres-T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386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d standardisées de mesures / Limitations :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e représentent pas nécessairement les usages et situations rée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utre ex. : peinture : mode d’application, T de séchage, T0 des mesures, protection de l’opérateur/l’utilisateur (masque, gants,.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9280" y="1557360"/>
          <a:ext cx="431964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43196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C7E-3E0B-4104-A1F9-393F2C7EF525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9371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âge, sexe,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ditions de vie et habit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720000" indent="-144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Quartier, 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âge de l'habitat/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actér./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état,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ut propriétaire/ locataire, étage bâtiment, 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exposition pdt/après travaux,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tance à source ponctuelle, résidence/zone urbaine/périphérie, et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72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niv. socio-écon., caract.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720000" indent="-144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éduc., caract. ménages, ethnicité/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e, 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bit.alim/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nutrition,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tyle de vie/ comportement, budget-tmps in&amp;out, 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tivités/f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q,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isi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72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tiv. p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hys., 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ysiol.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(ex : vol.d’air inha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é, 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saison, etc)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ommation de produits et articles (ménagers et autres), mode d’utilisation, hobbies, .</a:t>
            </a: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2160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Un toit mais aussi le bien-être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Qualité et protection de l’environnement extérieur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Qualité de l’envirt intérieur : salubrité, protection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cès à des ressources de qualité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s polarisat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 facteurs; vulnérabilité/statuts divers (personnes dépendantes, isolées, chômage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état de santé/de maladie, statut immunitaire, migration, diff.génétiques, ...),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Styles de vie selon âge, sex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Groupes à risque, Déterminants</a:t>
            </a:r>
            <a:br>
              <a:rPr sz="2600"/>
            </a:b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922A-C27F-45E2-B7B0-CC3A0A2CF451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3399"/>
                </a:solidFill>
                <a:latin typeface="Arial"/>
              </a:rPr>
              <a:t>approche in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FR" sz="28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FR" sz="2800" spc="-1" strike="noStrike">
                <a:solidFill>
                  <a:srgbClr val="003399"/>
                </a:solidFill>
                <a:latin typeface="Arial"/>
              </a:rPr>
              <a:t>e incluant l’exposition</a:t>
            </a:r>
            <a:r>
              <a:rPr b="0" lang="fr-FR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dentifier facteurs relevants / ttes voies / Expo du consomm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onn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s rep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entatives dispo EU + EM +Rég +Local s/consommateurs ; variations temporelles, incertitude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ase de donn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s </a:t>
            </a:r>
            <a:r>
              <a:rPr b="0" lang="en-GB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</a:t>
            </a: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 Logiciel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User's Friend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ructure logique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; Visualiser lacune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volutif : sans limitation de taill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Scénarios d’exposition ; modélisa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0" name="Picture 4" descr="img_1">
            <a:hlinkClick r:id="rId1"/>
          </p:cNvPr>
          <p:cNvPicPr/>
          <p:nvPr/>
        </p:nvPicPr>
        <p:blipFill>
          <a:blip r:embed="rId2"/>
          <a:srcRect l="0" t="23566" r="50931" b="13657"/>
          <a:stretch/>
        </p:blipFill>
        <p:spPr>
          <a:xfrm>
            <a:off x="4788000" y="2438280"/>
            <a:ext cx="4356000" cy="40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Line 5"/>
          <p:cNvSpPr/>
          <p:nvPr/>
        </p:nvSpPr>
        <p:spPr>
          <a:xfrm>
            <a:off x="6553080" y="1314360"/>
            <a:ext cx="9720" cy="193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995080" y="914400"/>
            <a:ext cx="1017360" cy="36828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Life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582800" y="1503360"/>
            <a:ext cx="968760" cy="6426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861160" y="1476360"/>
            <a:ext cx="1476360" cy="6426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Dur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551000" y="1544760"/>
            <a:ext cx="1512720" cy="6426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Time bud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cca"/>
                </a:solidFill>
                <a:latin typeface="Arial"/>
                <a:ea typeface="ＭＳ Ｐゴシック"/>
              </a:rPr>
              <a:t>&amp;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 flipV="1">
            <a:off x="5128920" y="1411200"/>
            <a:ext cx="2948040" cy="1296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5105520" y="1413000"/>
            <a:ext cx="0" cy="9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8077320" y="14479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951600" y="59500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©Steenhout,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878-DBCD-4B80-8344-016CE9253CCF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19700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ugmenter la fiabili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des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valuations d’exposi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ri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ères consistants de qualité des donné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armonisation des modes d’évaluation mais respect de la complexi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et de la varié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 des situations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comportements dans la population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inhal.,ingest.,v.dermique /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via activités nombreuses et varié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rise en compte possible aussi du degré d’exposition au travai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ositions à plusieurs polluants - “cocktail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Exposition: composante d’un ensemble d'événements ayant potentiellement des effets sur la santé 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14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gage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1052640"/>
            <a:ext cx="87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3 jours pour redécorer : détergents pour laver les murs, peinture, dissolvant 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=&gt;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inhalation et contact der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Inondation/panneaux et boiseries intérieures et meubles à traiter/ rénover : produit de préservation du bois, tout en vivant sur 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=&gt;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inhalation, y compris pendant repas, et par la p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Installation d'étagères (aggloméré) et vernis =&gt;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inhalation et par la p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Exmpl/scénarios impliquant produits/articles(maintenance/ rénov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5189-423D-41DC-8937-84EF6E0AF8BF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5256000" cy="410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723600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d’après Steenhout</a:t>
            </a:r>
            <a:r>
              <a:rPr b="1" lang="fr-BE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8dc9"/>
                </a:solidFill>
                <a:latin typeface="Arial"/>
              </a:rPr>
              <a:t>Fenêtre(s) de vulnérabilité-</a:t>
            </a:r>
            <a:br>
              <a:rPr sz="2600"/>
            </a:br>
            <a:r>
              <a:rPr b="0" lang="fr-BE" sz="2600" spc="-1" strike="noStrike">
                <a:solidFill>
                  <a:srgbClr val="008dc9"/>
                </a:solidFill>
                <a:latin typeface="Arial"/>
              </a:rPr>
              <a:t>Sensibilité parfois accrue de l’enfant</a:t>
            </a:r>
            <a:br>
              <a:rPr sz="2600"/>
            </a:br>
            <a:r>
              <a:rPr b="0" lang="fr-BE" sz="2600" spc="-1" strike="noStrike">
                <a:solidFill>
                  <a:srgbClr val="008dc9"/>
                </a:solidFill>
                <a:latin typeface="Arial"/>
              </a:rPr>
              <a:t> Exmple de coefft de transfert vers les tissus</a:t>
            </a:r>
            <a:br>
              <a:rPr sz="2600"/>
            </a:b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771640" y="1773360"/>
            <a:ext cx="43344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067280" y="1268280"/>
            <a:ext cx="2952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omparaison Enft/Adu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5300640"/>
            <a:ext cx="89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pour données de qualité et établissement d’une associa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d‘une relation de causalité, d’un</a:t>
            </a:r>
            <a:r>
              <a:rPr b="0" lang="da-DK" sz="2200" spc="-1" strike="noStrike">
                <a:solidFill>
                  <a:srgbClr val="003399"/>
                </a:solidFill>
                <a:latin typeface="Arial"/>
              </a:rPr>
              <a:t>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da-DK" sz="2200" spc="-1" strike="noStrike">
                <a:solidFill>
                  <a:srgbClr val="003399"/>
                </a:solidFill>
                <a:latin typeface="Arial"/>
              </a:rPr>
              <a:t>canisme d’ Action: jusqu’à plusieurs dizaines d’années pour une sub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525D-E81E-4B81-AF78-602B5A0D80BC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tection de l’environnement, 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 l’environnement construit et de la santé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5280" y="1341000"/>
            <a:ext cx="382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tégration paysagèr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teractions chantier/ environnement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stion des déchêts, recyclage, aménagt des sites d’enfouissement technique, confin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men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 des produits déversés, contrôle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percolats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dégag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s gazeux, …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tection du patrimoine/restauration; maintenance/rénov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aptation à critères économiques et socio-économique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788000" y="1267920"/>
            <a:ext cx="3884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tilisation rationnelle des ressourc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nergie , eau, matières 1ères, systèmes de contrôle, régulation des infrastructur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Respect de la biodiversité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éhabilitation des sols: couverture, drainage, surveilla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CHOIX DES MATERIAUX DE CONSTRUCTION , DES MATERIAUX, PRODUITS ET ARTICLES DANS LES FINITIONS : conséquences sur l’environnement et sur les degrés d’exposition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EA32-0726-4854-BAFA-037B9670A2A5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L’enfant n’est </a:t>
            </a:r>
            <a:r>
              <a:rPr b="0" lang="fr-BE" sz="4000" spc="-1" strike="noStrike">
                <a:solidFill>
                  <a:srgbClr val="ff0000"/>
                </a:solidFill>
                <a:latin typeface="Arial"/>
              </a:rPr>
              <a:t>PAS</a:t>
            </a:r>
            <a:r>
              <a:rPr b="0" lang="fr-BE" sz="4000" spc="-1" strike="noStrike">
                <a:solidFill>
                  <a:srgbClr val="003399"/>
                </a:solidFill>
                <a:latin typeface="Arial"/>
              </a:rPr>
              <a:t> un adulte en peti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5" name="Object 7"/>
          <p:cNvGraphicFramePr/>
          <p:nvPr/>
        </p:nvGraphicFramePr>
        <p:xfrm>
          <a:off x="250920" y="1052640"/>
          <a:ext cx="180000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18000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11"/>
          <p:cNvSpPr/>
          <p:nvPr/>
        </p:nvSpPr>
        <p:spPr>
          <a:xfrm>
            <a:off x="0" y="3933720"/>
            <a:ext cx="9144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Joue, se comporte, agit autrement que les adul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Exposition accrue , Sources à sa hauteur, adhérence des PM sur doigts mouillés, mise à la bo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16360" y="764640"/>
            <a:ext cx="5905440" cy="3240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Mange, boit, respire dans des proportions qui, pour sa taille, diffère du cas des adulte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Métabolisme différent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Susceptibilité aux toxiques pouvant être accrue à des stades de développement et de la croissance sensibles aux substances chimiqu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 rot="16200000">
            <a:off x="-432360" y="2745360"/>
            <a:ext cx="1225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BE" sz="900" spc="-1" strike="noStrike">
                <a:solidFill>
                  <a:srgbClr val="000000"/>
                </a:solidFill>
                <a:latin typeface="Arial"/>
              </a:rPr>
              <a:t>A Steenh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0" y="5373720"/>
            <a:ext cx="892980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Arial"/>
              </a:rPr>
              <a:t>multi-causalité</a:t>
            </a: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0" i="1" lang="fr-BE" sz="2400" spc="-1" strike="noStrike">
                <a:solidFill>
                  <a:srgbClr val="ff0000"/>
                </a:solidFill>
                <a:latin typeface="Arial"/>
              </a:rPr>
              <a:t>nécessité d'une approche réellement intég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Arial"/>
              </a:rPr>
              <a:t>groupes vulnérables : renforcer la précaution, protéger les générations fu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DF21-3663-49CF-9FB0-BB6AF08F8940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4920" y="1268280"/>
            <a:ext cx="439236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4 ème conférence ministérielle</a:t>
            </a:r>
            <a:br>
              <a:rPr sz="2600"/>
            </a:b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Environnement &amp; Santé</a:t>
            </a:r>
            <a:br>
              <a:rPr sz="2600"/>
            </a:b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Budapest - 06 2004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560" y="3441600"/>
            <a:ext cx="698508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avec développement par l'OMS d'u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" Children's Environment &amp; Health Action Pla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 Europe (CEHAPE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et une volo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é de</a:t>
            </a: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 coordination avec la stratégie européenne intégrée e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’initiative SCA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" name="Picture 4" descr="The future of our children_ logo100"/>
          <p:cNvPicPr/>
          <p:nvPr/>
        </p:nvPicPr>
        <p:blipFill>
          <a:blip r:embed="rId1"/>
          <a:stretch/>
        </p:blipFill>
        <p:spPr>
          <a:xfrm>
            <a:off x="250920" y="1773360"/>
            <a:ext cx="1547640" cy="105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European Flag"/>
          <p:cNvPicPr/>
          <p:nvPr/>
        </p:nvPicPr>
        <p:blipFill>
          <a:blip r:embed="rId2"/>
          <a:stretch/>
        </p:blipFill>
        <p:spPr>
          <a:xfrm>
            <a:off x="5940360" y="1844640"/>
            <a:ext cx="15242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2055-CAAD-4C39-BF93-24068277FF2E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6120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3399"/>
                </a:solidFill>
                <a:latin typeface="Arial"/>
              </a:rPr>
              <a:t>Initiative SCALE:DG ENV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160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S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ientific evidence, focused on 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C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ildren, meant to raise 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A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areness, improve the situation by use of 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L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gal instruments &amp; ensure a continual 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Arial"/>
              </a:rPr>
              <a:t>E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aluation of progress ma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Picture 4" descr="Logo%20Scale"/>
          <p:cNvPicPr/>
          <p:nvPr/>
        </p:nvPicPr>
        <p:blipFill>
          <a:blip r:embed="rId1"/>
          <a:stretch/>
        </p:blipFill>
        <p:spPr>
          <a:xfrm>
            <a:off x="0" y="0"/>
            <a:ext cx="1600200" cy="1052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3600360"/>
            <a:ext cx="4859280" cy="3405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lusieurs G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Baseline Reports: c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ompilation données, activités EM ou r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Eval.effets néfastes de polluan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ropos. mesures Réd.  risqu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Base de systèmes  moni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Recomma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European Flag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05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4859280" y="3618000"/>
            <a:ext cx="4284720" cy="3240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C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éclaration en faveur 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évelopt d’une straté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Européenne Envirt- Santé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’une approche syst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lan d’action adopté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Conseil des Ministr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juin 2004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755640" y="314172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e 07 2003 à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06 2004(Conseil UE, Budapest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6DA6-4965-4B40-B821-74CF9971E8B2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9000" y="380880"/>
            <a:ext cx="55627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que me conseillez-vous d’aller visiter ?</a:t>
            </a:r>
            <a:br>
              <a:rPr sz="40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manda le petit pri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3068640"/>
            <a:ext cx="4969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La planète Terre, 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elle a une bonne réputation,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ui répondit le géograph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441520" cy="266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5940360" y="3352680"/>
            <a:ext cx="26798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91E4-19F7-48BF-8403-11DFDED636DF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924360" y="3716280"/>
            <a:ext cx="4032360" cy="10087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mpacts d’expositions chroniques sur l’organisme, même à basse ex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227640" y="1844640"/>
            <a:ext cx="1729080" cy="1871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nteraction 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de différents polluants : cocktail 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compl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924360" y="1916280"/>
            <a:ext cx="1738080" cy="18000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ir, eau, sol, poussiè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lim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produits &amp; matéri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851280" y="1125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Cumulation :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lusieurs sources &amp; pollu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9280" y="134136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Toxic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0 % de la charge des maladies sont 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ribués à des facteurs environnementaux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6" name="Group 16"/>
          <p:cNvGrpSpPr/>
          <p:nvPr/>
        </p:nvGrpSpPr>
        <p:grpSpPr>
          <a:xfrm>
            <a:off x="0" y="1844640"/>
            <a:ext cx="3563640" cy="2750760"/>
            <a:chOff x="0" y="1844640"/>
            <a:chExt cx="3563640" cy="2750760"/>
          </a:xfrm>
        </p:grpSpPr>
        <p:pic>
          <p:nvPicPr>
            <p:cNvPr id="87" name="Picture 17" descr=""/>
            <p:cNvPicPr/>
            <p:nvPr/>
          </p:nvPicPr>
          <p:blipFill>
            <a:blip r:embed="rId1"/>
            <a:stretch/>
          </p:blipFill>
          <p:spPr>
            <a:xfrm>
              <a:off x="0" y="3307320"/>
              <a:ext cx="1166760" cy="12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8" descr=""/>
            <p:cNvPicPr/>
            <p:nvPr/>
          </p:nvPicPr>
          <p:blipFill>
            <a:blip r:embed="rId2"/>
            <a:stretch/>
          </p:blipFill>
          <p:spPr>
            <a:xfrm>
              <a:off x="0" y="1844640"/>
              <a:ext cx="1166760" cy="14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9" descr=""/>
            <p:cNvPicPr/>
            <p:nvPr/>
          </p:nvPicPr>
          <p:blipFill>
            <a:blip r:embed="rId3"/>
            <a:stretch/>
          </p:blipFill>
          <p:spPr>
            <a:xfrm>
              <a:off x="1166760" y="1844640"/>
              <a:ext cx="1198440" cy="14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0" descr=""/>
            <p:cNvPicPr/>
            <p:nvPr/>
          </p:nvPicPr>
          <p:blipFill>
            <a:blip r:embed="rId4"/>
            <a:stretch/>
          </p:blipFill>
          <p:spPr>
            <a:xfrm>
              <a:off x="2365200" y="1844640"/>
              <a:ext cx="1198440" cy="148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1" descr=""/>
            <p:cNvPicPr/>
            <p:nvPr/>
          </p:nvPicPr>
          <p:blipFill>
            <a:blip r:embed="rId5"/>
            <a:stretch/>
          </p:blipFill>
          <p:spPr>
            <a:xfrm>
              <a:off x="1166760" y="3307320"/>
              <a:ext cx="1198440" cy="12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2" descr="environnement"/>
            <p:cNvPicPr/>
            <p:nvPr/>
          </p:nvPicPr>
          <p:blipFill>
            <a:blip r:embed="rId6"/>
            <a:stretch/>
          </p:blipFill>
          <p:spPr>
            <a:xfrm>
              <a:off x="2402640" y="3324240"/>
              <a:ext cx="1134360" cy="12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23"/>
          <p:cNvSpPr/>
          <p:nvPr/>
        </p:nvSpPr>
        <p:spPr>
          <a:xfrm>
            <a:off x="0" y="494172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1981-1993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: CE démarre par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les substances nouvelles (march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gt; 1981)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Depuis1993 :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s’occupe également de l'évaluation des risques pour les substances existantes (march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 1981),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soit plus de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our leur majorité, on ne dispose pas des informations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 MINIMUM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nécessaires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C1A-EE74-45C8-BDF1-F413B57E9D25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'OMS définit la santé 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« comme un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état de complet bien-êt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physique, mental et social et ne consiste pas seulement en une absence de maladie ou d'infirmité. 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Avoir un logement est un </a:t>
            </a:r>
            <a:r>
              <a:rPr b="0" lang="fr-BE" sz="2600" spc="-1" strike="noStrike">
                <a:solidFill>
                  <a:srgbClr val="ff0000"/>
                </a:solidFill>
                <a:latin typeface="Arial"/>
              </a:rPr>
              <a:t>dro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3568680"/>
          <a:ext cx="9144000" cy="2297160"/>
        </p:xfrm>
        <a:graphic>
          <a:graphicData uri="http://schemas.openxmlformats.org/drawingml/2006/table">
            <a:tbl>
              <a:tblPr/>
              <a:tblGrid>
                <a:gridCol w="2600280"/>
                <a:gridCol w="1793880"/>
                <a:gridCol w="2327400"/>
                <a:gridCol w="242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dul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nfant : é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nfant : h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o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vail,é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rans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xtérieur/c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h / 4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h / 1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dc9"/>
                      </a:solidFill>
                    </a:lnL>
                    <a:lnR w="5760">
                      <a:solidFill>
                        <a:srgbClr val="008dc9"/>
                      </a:solidFill>
                    </a:lnR>
                    <a:lnT w="5760">
                      <a:solidFill>
                        <a:srgbClr val="008dc9"/>
                      </a:solidFill>
                    </a:lnT>
                    <a:lnB w="5760">
                      <a:solidFill>
                        <a:srgbClr val="008dc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46"/>
          <p:cNvSpPr/>
          <p:nvPr/>
        </p:nvSpPr>
        <p:spPr>
          <a:xfrm>
            <a:off x="0" y="58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0000"/>
                </a:solidFill>
                <a:latin typeface="Arial"/>
              </a:rPr>
              <a:t>Importante durée d'exposition à l'intéri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64DA-38A4-4638-94A9-041D0EE50047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s approche durable  (1) </a:t>
            </a:r>
            <a:br>
              <a:rPr sz="2600"/>
            </a:br>
            <a:r>
              <a:rPr b="0" lang="fr-BE" sz="2600" spc="-1" strike="noStrike">
                <a:solidFill>
                  <a:srgbClr val="003399"/>
                </a:solidFill>
                <a:latin typeface="Arial"/>
              </a:rPr>
              <a:t>Logement : droits et rencontre de besoi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412640"/>
            <a:ext cx="8991720" cy="4895640"/>
          </a:xfrm>
          <a:prstGeom prst="rect">
            <a:avLst/>
          </a:prstGeom>
          <a:noFill/>
          <a:ln w="0">
            <a:noFill/>
          </a:ln>
        </p:spPr>
        <p:txBody>
          <a:bodyPr lIns="18000" rIns="180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Durabilité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tériaux, qualité de mise en oeuvre, adéquation fonctionnelle, adaptabilité/évolution des besoins des occupants ; T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chnologies nouvelles, amélioration des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rformances structurelles et de confor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Ecoefficience :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Optimalisation pour « faire + avec – 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tilisation rationnelle des ressources naturelles non renouvelables     Energie; Eau, occupation du sol, Matériaux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Réd . des émissions de gaz à effets de serre &amp; de la consom.d’énergie /d’eau pdt chantier et cycle de vie du produit   + g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tion déchets/recyclage/ confin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men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 /site d’enfouissement techniqu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éhabilitation des sols: couverture, drainage, surveillance, intégration paysagère; Respect environnement/ biodiversité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Soutenabilité :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socio-économiqt accessible(coûts indirects) 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Habitabilité : avoir un toit mais aussi un chez-soi/protection,</a:t>
            </a:r>
            <a:br>
              <a:rPr sz="2000"/>
            </a:b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bien-être/santé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Salubrité du logement privé ou social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640720" y="63086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45A9-4FB6-481B-80BE-0FB179C9B92D}" type="slidenum">
              <a:rPr b="0" lang="en-US" sz="1600" spc="-1" strike="noStrike">
                <a:solidFill>
                  <a:srgbClr val="333399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997360"/>
            <a:ext cx="93232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. de p</a:t>
            </a: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oll. +concentrés à l’intérieur qu’à l’extérieur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M10 ou PM2.5 ("PM" : "particulate matter", ici taille </a:t>
            </a:r>
            <a:r>
              <a:rPr b="0" lang="fr-BE" sz="18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 10µm ou </a:t>
            </a:r>
            <a:r>
              <a:rPr b="0" lang="fr-BE" sz="18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2.5µm, </a:t>
            </a:r>
            <a:br>
              <a:rPr sz="1800"/>
            </a:b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avec pénétration plus aisée de particules les + fines dans les bâtiments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CO (monoxyde de carbone),  NOx (oxydes d’azote),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COVT (composés organiques volatils totaux) ou COV individuels : hydrocarbures aromatiques, cétones, alcools, éthers, ...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dont cancérigènes (nicotine, benzène, formaldéhyde,…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Picture 7" descr="Manhattan_NYC076"/>
          <p:cNvPicPr/>
          <p:nvPr/>
        </p:nvPicPr>
        <p:blipFill>
          <a:blip r:embed="rId1"/>
          <a:stretch/>
        </p:blipFill>
        <p:spPr>
          <a:xfrm>
            <a:off x="0" y="981000"/>
            <a:ext cx="1584360" cy="1943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>
            <a:off x="2843280" y="1341360"/>
            <a:ext cx="720720" cy="790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564000" y="1413000"/>
            <a:ext cx="15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Conta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de l’air ext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621800" y="148428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796000" y="1341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Péné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à l’int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236000" y="1341360"/>
            <a:ext cx="720720" cy="719280"/>
          </a:xfrm>
          <a:prstGeom prst="rightArrow">
            <a:avLst>
              <a:gd name="adj1" fmla="val 50000"/>
              <a:gd name="adj2" fmla="val 25050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 rot="5400000">
            <a:off x="3886200" y="2170080"/>
            <a:ext cx="720720" cy="790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>
              <a:alpha val="48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68360" y="5300640"/>
            <a:ext cx="1942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lus d’isolation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Economie d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Lutte contre le b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203640" y="5516640"/>
            <a:ext cx="1942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eu/pas de venti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Ni renouvel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d’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2556000" y="5373720"/>
            <a:ext cx="72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+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5435640" y="5373720"/>
            <a:ext cx="72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+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6227640" y="53006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Choix des matériau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roduits et artic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cktails de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roduits chim. Expositions combi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5084640"/>
            <a:ext cx="8964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oix pas toujours “durab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076720" y="1268280"/>
            <a:ext cx="720720" cy="719280"/>
          </a:xfrm>
          <a:prstGeom prst="rightArrow">
            <a:avLst>
              <a:gd name="adj1" fmla="val 50000"/>
              <a:gd name="adj2" fmla="val 25050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7451640" y="692280"/>
            <a:ext cx="169236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épô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s= f (fournitures, PM ,taille, ventilation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s approche durable (2) : 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nv-Logt-Sté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1:08:34Z</dcterms:created>
  <dc:creator>AS</dc:creator>
  <dc:description/>
  <dc:language>en-US</dc:language>
  <cp:lastModifiedBy>Bénédicte Mercenier</cp:lastModifiedBy>
  <dcterms:modified xsi:type="dcterms:W3CDTF">2014-09-26T06:55:28Z</dcterms:modified>
  <cp:revision>11</cp:revision>
  <dc:subject/>
  <dc:title>Que peut apporter une approche intégrée Environnement-Logement_Santé dans le cas des enfants</dc:title>
</cp:coreProperties>
</file>