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F64-2BEF-40DF-9690-7C46F8AE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0590-0770-4940-AF0D-E4A0B76D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D3FE-55CA-434F-AE89-CD4C6306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5FF-AD05-49CD-9950-0C67F928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5A5F-7304-4486-AE8A-F8303EFE7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C928-4564-42FD-8976-E0CE349E5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2B5A-FA05-477E-B544-E99FF3ABA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E4F2-AC7E-457E-996F-43433C73D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331F-558A-4263-A250-B409AC7D4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31D4-EE85-4BBC-BB84-51C58233D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7FD6-B106-473F-8577-956B6F8A0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A1C6-E68A-4252-95F5-BF79082A4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8941-4657-4D3E-9A25-03A1F594A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5312-CD29-4D25-B37D-17ED1290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978B-5710-412D-9852-3DCFB119D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A17E-05EE-412B-AE98-9CB1FAA1E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786-7124-4820-AE92-8B563D2F1D36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/a_AgenceF&#231;se%20S&#233;cuAlim/0_0J&#233;e%2019D&#233;c/_format%20Harmo/pr%25C3%25A9sentaBrutes/Anne%20Steenhout%20.pp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atibouw 2007 - Semaine du Logement Durable - Construction &amp; Rénovation durables / Plus de bien-être dans son logement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Que peut apporter </a:t>
            </a:r>
            <a:br>
              <a:rPr sz="4000"/>
            </a:b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une approche intégrée environnement-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ogement-santé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dan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e ca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des enfants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076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G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roupe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d’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E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tude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E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cotoxicologique sur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e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P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olluants,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Anne Steenhou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a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S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anté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et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e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I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mpact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sur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’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H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omm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Faculté des Sciences (Igea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Université Libre de Bruxel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7236000" y="5084640"/>
            <a:ext cx="1583640" cy="792360"/>
            <a:chOff x="7236000" y="5084640"/>
            <a:chExt cx="1583640" cy="792360"/>
          </a:xfrm>
        </p:grpSpPr>
        <p:pic>
          <p:nvPicPr>
            <p:cNvPr id="49" name="Picture 6" descr="ulb_bleu"/>
            <p:cNvPicPr/>
            <p:nvPr/>
          </p:nvPicPr>
          <p:blipFill>
            <a:blip r:embed="rId1"/>
            <a:stretch/>
          </p:blipFill>
          <p:spPr>
            <a:xfrm>
              <a:off x="7504920" y="5221080"/>
              <a:ext cx="657360" cy="65556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  <p:sp>
          <p:nvSpPr>
            <p:cNvPr id="50" name="Rectangle 7"/>
            <p:cNvSpPr/>
            <p:nvPr/>
          </p:nvSpPr>
          <p:spPr>
            <a:xfrm>
              <a:off x="8162280" y="5289120"/>
              <a:ext cx="65736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82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 Narrow"/>
                  <a:ea typeface="ＭＳ Ｐゴシック"/>
                </a:rPr>
                <a:t>GEEPS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8" descr=""/>
            <p:cNvPicPr/>
            <p:nvPr/>
          </p:nvPicPr>
          <p:blipFill>
            <a:blip r:embed="rId2"/>
            <a:stretch/>
          </p:blipFill>
          <p:spPr>
            <a:xfrm>
              <a:off x="7504920" y="5084640"/>
              <a:ext cx="1314720" cy="20448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  <p:pic>
          <p:nvPicPr>
            <p:cNvPr id="52" name="Picture 9" descr=""/>
            <p:cNvPicPr/>
            <p:nvPr/>
          </p:nvPicPr>
          <p:blipFill>
            <a:blip r:embed="rId3"/>
            <a:stretch/>
          </p:blipFill>
          <p:spPr>
            <a:xfrm>
              <a:off x="7236000" y="5084640"/>
              <a:ext cx="268920" cy="79236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E82-7210-4A3F-949F-5E41B5D699E4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tudes en chambres-T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386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d standardisées de mesures / Limitations :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e représentent pas nécessairement les usages et situations ré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utre ex. : peinture : mode d’application, T de séchage, T0 des mesures, protection de l’opérateur/l’utilisateur (masque, gants,.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9280" y="1557360"/>
          <a:ext cx="431964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43196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CB0-EB13-4F49-B9A5-09EC515AC044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9371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âge, sexe,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ditions de vie et habit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Quartier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âge de l'habitat/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actér./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état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ut propriétaire/ locataire, étage bâtiment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exposition pdt/après travaux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tance à source ponctuelle, résidence/zone urbaine/périphérie, et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niv. socio-écon., caract.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éduc., caract. ménages, ethnicité/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e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bit.alim/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nutrition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tyle de vie/ comportement, budget-tmps in&amp;out, 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tivités/f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q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isi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tiv. p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hys., 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ysiol.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(ex : vol.d’air inha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saison, etc)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ommation de produits et articles (ménagers et autres), mode d’utilisation, hobbies, .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2160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Un toit mais aussi le bien-être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Qualité et protection de l’environnement extérieur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Qualité de l’envirt intérieur : salubrité, protecti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cès à des ressources de qualité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s polaris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 facteurs; vulnérabilité/statuts divers (personnes dépendantes, isolées, chômage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état de santé/de maladie, statut immunitaire, migration, diff.génétiques, ...),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tyles de vie selon âge, sex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Groupes à risque, Déterminants</a:t>
            </a:r>
            <a:br>
              <a:rPr sz="2600"/>
            </a:b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BD0F-1F23-4A9D-8F8D-8252DFB25FDF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approche in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e incluant l’exposition</a:t>
            </a:r>
            <a:r>
              <a:rPr b="0" lang="fr-FR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dentifier facteurs relevants / ttes voies / Expo du consomm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on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s rep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entatives dispo EU + EM +Rég +Local s/consommateurs ; variations temporelles, incertitud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ase de don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s </a:t>
            </a:r>
            <a:r>
              <a:rPr b="0" lang="en-GB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</a:t>
            </a: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 Logiciel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User's Friend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ructure logique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; Visualiser lacun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volutif : sans limitation de taill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Scénarios d’exposition ; modélisa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Picture 4" descr="img_1">
            <a:hlinkClick r:id="rId1"/>
          </p:cNvPr>
          <p:cNvPicPr/>
          <p:nvPr/>
        </p:nvPicPr>
        <p:blipFill>
          <a:blip r:embed="rId2"/>
          <a:srcRect l="0" t="23566" r="50931" b="13657"/>
          <a:stretch/>
        </p:blipFill>
        <p:spPr>
          <a:xfrm>
            <a:off x="4788000" y="2438280"/>
            <a:ext cx="4356000" cy="40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Line 5"/>
          <p:cNvSpPr/>
          <p:nvPr/>
        </p:nvSpPr>
        <p:spPr>
          <a:xfrm>
            <a:off x="6553080" y="1314360"/>
            <a:ext cx="9720" cy="193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95080" y="914400"/>
            <a:ext cx="1017360" cy="36828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Lif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82800" y="1503360"/>
            <a:ext cx="96876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861160" y="1476360"/>
            <a:ext cx="147636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Dur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551000" y="1544760"/>
            <a:ext cx="151272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Time bud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&amp;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128920" y="1411200"/>
            <a:ext cx="2948040" cy="1296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5105520" y="1413000"/>
            <a:ext cx="0" cy="9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8077320" y="1447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951600" y="59500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©Steenhout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396-0B28-460B-B589-19D19E5EC672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19700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ugmenter la fiabil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des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valuations d’exposi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r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ères consistants de qualité des donné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armonisation des modes d’évaluation mais respect de la complex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et de la varié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 des situations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comportements dans la population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hal.,ingest.,v.dermique /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via activités nombreuses et varié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rise en compte possible aussi du degré d’exposition au travai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ositions à plusieurs polluants - “cocktail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Exposition: composante d’un ensemble d'événements ayant potentiellement des effets sur la santé 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gag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1052640"/>
            <a:ext cx="87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3 jours pour redécorer : détergents pour laver les murs, peinture, dissolvant 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 et contact d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ondation/panneaux et boiseries intérieures et meubles à traiter/ rénover : produit de préservation du bois, tout en vivant sur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, y compris pendant repas, et par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stallation d'étagères (aggloméré) et vernis 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 et par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Exmpl/scénarios impliquant produits/articles(maintenance/ réno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1B0-2890-4B04-A9E5-E91573D2CF48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5256000" cy="41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23600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’après Steenhout</a:t>
            </a:r>
            <a:r>
              <a:rPr b="1" lang="fr-BE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Fenêtre(s) de vulnérabilité-</a:t>
            </a:r>
            <a:br>
              <a:rPr sz="2600"/>
            </a:b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Sensibilité parfois accrue de l’enfant</a:t>
            </a:r>
            <a:br>
              <a:rPr sz="2600"/>
            </a:b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 Exmple de coefft de transfert vers les tissus</a:t>
            </a:r>
            <a:br>
              <a:rPr sz="2600"/>
            </a:b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771640" y="1773360"/>
            <a:ext cx="43344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067280" y="1268280"/>
            <a:ext cx="2952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paraison Enft/Adu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530064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pour données de qualité et établissement d’une associ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d‘une relation de causalité, d’un</a:t>
            </a:r>
            <a:r>
              <a:rPr b="0" lang="da-DK" sz="2200" spc="-1" strike="noStrike">
                <a:solidFill>
                  <a:srgbClr val="003399"/>
                </a:solidFill>
                <a:latin typeface="Arial"/>
              </a:rPr>
              <a:t>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da-DK" sz="2200" spc="-1" strike="noStrike">
                <a:solidFill>
                  <a:srgbClr val="003399"/>
                </a:solidFill>
                <a:latin typeface="Arial"/>
              </a:rPr>
              <a:t>canisme d’ Action: jusqu’à plusieurs dizaines d’années pour une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00F9-149A-4CFD-9D82-6A8D2ABA0180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tection de l’environnement, 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 l’environnement construit et de la santé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1341000"/>
            <a:ext cx="382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égration paysagèr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eractions chantier/ environnement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stion des déchêts, recyclage, aménagt des sites d’enfouissement technique, confin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e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 des produits déversés, contrôle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percolat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dégag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s gazeux, …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tection du patrimoine/restauration; maintenance/rénov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aptation à critères économiques et socio-économiqu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788000" y="1267920"/>
            <a:ext cx="388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tilisation rationnelle des ressourc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nergie , eau, matières 1ères, systèmes de contrôle, régulation des infrastructu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Respect de la biodiversité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éhabilitation des sols: couverture, drainage, surveill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CHOIX DES MATERIAUX DE CONSTRUCTION , DES MATERIAUX, PRODUITS ET ARTICLES DANS LES FINITIONS : conséquences sur l’environnement et sur les degrés d’exposition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6F3A-8406-4F58-A6D3-DDEAB9F4E2EC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’enfant n’est </a:t>
            </a:r>
            <a:r>
              <a:rPr b="0" lang="fr-BE" sz="4000" spc="-1" strike="noStrike">
                <a:solidFill>
                  <a:srgbClr val="ff0000"/>
                </a:solidFill>
                <a:latin typeface="Arial"/>
              </a:rPr>
              <a:t>PAS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 un adulte en pet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250920" y="1052640"/>
          <a:ext cx="180000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18000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1"/>
          <p:cNvSpPr/>
          <p:nvPr/>
        </p:nvSpPr>
        <p:spPr>
          <a:xfrm>
            <a:off x="0" y="393372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Joue, se comporte, agit autrement que les adul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xposition accrue , Sources à sa hauteur, adhérence des PM sur doigts mouillés, mise à la b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360" y="764640"/>
            <a:ext cx="5905440" cy="3240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Mange, boit, respire dans des proportions qui, pour sa taille, diffère du cas des adult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Métabolisme différent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usceptibilité aux toxiques pouvant être accrue à des stades de développement et de la croissance sensibles aux substances chimiq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 rot="16200000">
            <a:off x="-432360" y="2745360"/>
            <a:ext cx="1225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A Steen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0" y="5373720"/>
            <a:ext cx="892980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multi-causalité</a:t>
            </a: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nécessité d'une approche réellement intég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groupes vulnérables : renforcer la précaution, protéger les générations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935-B9EC-4221-8E3F-27AD46544373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1268280"/>
            <a:ext cx="43923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4 ème conférence ministérielle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nvironnement &amp; Santé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Budapest - 06 2004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560" y="3441600"/>
            <a:ext cx="69850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avec développement par l'OMS d'u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" Children's Environment &amp; Health Action Pla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 Europe (CEHAPE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t une volo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é de</a:t>
            </a: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 coordination avec la stratégie européenne intégrée e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’initiative SCA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Picture 4" descr="The future of our children_ logo100"/>
          <p:cNvPicPr/>
          <p:nvPr/>
        </p:nvPicPr>
        <p:blipFill>
          <a:blip r:embed="rId1"/>
          <a:stretch/>
        </p:blipFill>
        <p:spPr>
          <a:xfrm>
            <a:off x="250920" y="1773360"/>
            <a:ext cx="1547640" cy="105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uropean Flag"/>
          <p:cNvPicPr/>
          <p:nvPr/>
        </p:nvPicPr>
        <p:blipFill>
          <a:blip r:embed="rId2"/>
          <a:stretch/>
        </p:blipFill>
        <p:spPr>
          <a:xfrm>
            <a:off x="5940360" y="1844640"/>
            <a:ext cx="15242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743-484A-4ACB-B991-2C7BF450F388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120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3399"/>
                </a:solidFill>
                <a:latin typeface="Arial"/>
              </a:rPr>
              <a:t>Initiative SCALE:DG ENV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160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S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ientific evidence, focused on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C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ildren, meant to raise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areness, improve the situation by use of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gal instruments &amp; ensure a continual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E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of progress ma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Picture 4" descr="Logo%20Scale"/>
          <p:cNvPicPr/>
          <p:nvPr/>
        </p:nvPicPr>
        <p:blipFill>
          <a:blip r:embed="rId1"/>
          <a:stretch/>
        </p:blipFill>
        <p:spPr>
          <a:xfrm>
            <a:off x="0" y="0"/>
            <a:ext cx="1600200" cy="1052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3600360"/>
            <a:ext cx="4859280" cy="3405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usieurs G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Baseline Reports: c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ompilation données, activités EM ou r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val.effets néfastes de polluan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ropos. mesures Réd.  risqu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Base de systèmes  moni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Recomma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uropean Flag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05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859280" y="3618000"/>
            <a:ext cx="4284720" cy="3240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éclaration en faveur 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évelopt d’une straté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uropéenne Envirt- Santé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’une approche syst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an d’action adopté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onseil des Ministr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juin 2004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755640" y="314172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e 07 2003 à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06 2004(Conseil UE, Budapest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B27-0A0E-425D-88A2-9CA1DEA77173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55627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que me conseillez-vous d’aller visiter ?</a:t>
            </a:r>
            <a:br>
              <a:rPr sz="40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manda le petit pri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3068640"/>
            <a:ext cx="4969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La planète Terre, 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elle a une bonne réputation,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ui répondit le géograph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441520" cy="266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940360" y="3352680"/>
            <a:ext cx="2679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6B5-7FD8-4A55-B24E-F57084939779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924360" y="3716280"/>
            <a:ext cx="4032360" cy="1008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mpacts d’expositions chroniques sur l’organisme, même à basse ex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227640" y="1844640"/>
            <a:ext cx="1729080" cy="187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nteraction 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de différents polluants : cocktail 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compl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24360" y="1916280"/>
            <a:ext cx="1738080" cy="1800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ir, eau, sol, poussiè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lim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roduits &amp; matér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851280" y="1125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umulation :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usieurs sources &amp; pollu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34136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Toxic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0 % de la charge des maladies sont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ribués à des facteurs environnementaux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6" name="Group 16"/>
          <p:cNvGrpSpPr/>
          <p:nvPr/>
        </p:nvGrpSpPr>
        <p:grpSpPr>
          <a:xfrm>
            <a:off x="0" y="1844640"/>
            <a:ext cx="3563640" cy="2750760"/>
            <a:chOff x="0" y="1844640"/>
            <a:chExt cx="3563640" cy="2750760"/>
          </a:xfrm>
        </p:grpSpPr>
        <p:pic>
          <p:nvPicPr>
            <p:cNvPr id="87" name="Picture 17" descr=""/>
            <p:cNvPicPr/>
            <p:nvPr/>
          </p:nvPicPr>
          <p:blipFill>
            <a:blip r:embed="rId1"/>
            <a:stretch/>
          </p:blipFill>
          <p:spPr>
            <a:xfrm>
              <a:off x="0" y="3307320"/>
              <a:ext cx="116676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8" descr=""/>
            <p:cNvPicPr/>
            <p:nvPr/>
          </p:nvPicPr>
          <p:blipFill>
            <a:blip r:embed="rId2"/>
            <a:stretch/>
          </p:blipFill>
          <p:spPr>
            <a:xfrm>
              <a:off x="0" y="1844640"/>
              <a:ext cx="1166760" cy="14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9" descr=""/>
            <p:cNvPicPr/>
            <p:nvPr/>
          </p:nvPicPr>
          <p:blipFill>
            <a:blip r:embed="rId3"/>
            <a:stretch/>
          </p:blipFill>
          <p:spPr>
            <a:xfrm>
              <a:off x="1166760" y="1844640"/>
              <a:ext cx="1198440" cy="14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0" descr=""/>
            <p:cNvPicPr/>
            <p:nvPr/>
          </p:nvPicPr>
          <p:blipFill>
            <a:blip r:embed="rId4"/>
            <a:stretch/>
          </p:blipFill>
          <p:spPr>
            <a:xfrm>
              <a:off x="2365200" y="1844640"/>
              <a:ext cx="1198440" cy="148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1" descr=""/>
            <p:cNvPicPr/>
            <p:nvPr/>
          </p:nvPicPr>
          <p:blipFill>
            <a:blip r:embed="rId5"/>
            <a:stretch/>
          </p:blipFill>
          <p:spPr>
            <a:xfrm>
              <a:off x="1166760" y="3307320"/>
              <a:ext cx="119844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2" descr="environnement"/>
            <p:cNvPicPr/>
            <p:nvPr/>
          </p:nvPicPr>
          <p:blipFill>
            <a:blip r:embed="rId6"/>
            <a:stretch/>
          </p:blipFill>
          <p:spPr>
            <a:xfrm>
              <a:off x="2402640" y="3324240"/>
              <a:ext cx="1134360" cy="12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23"/>
          <p:cNvSpPr/>
          <p:nvPr/>
        </p:nvSpPr>
        <p:spPr>
          <a:xfrm>
            <a:off x="0" y="494172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1981-1993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: CE démarre par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les substances nouvelles (march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gt; 1981)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Depuis1993 :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s’occupe également de l'évaluation des risques pour les substances existantes (march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 1981),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oit plus de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our leur majorité, on ne dispose pas des informations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MINIMUM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nécessaires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701-496A-4FEA-A432-10B9BE981B5D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'OMS définit la santé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« comme u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état de complet bien-êt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physique, mental et social et ne consiste pas seulement en une absence de maladie ou d'infirmité. 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Avoir un logement est un </a:t>
            </a:r>
            <a:r>
              <a:rPr b="0" lang="fr-BE" sz="2600" spc="-1" strike="noStrike">
                <a:solidFill>
                  <a:srgbClr val="ff0000"/>
                </a:solidFill>
                <a:latin typeface="Arial"/>
              </a:rPr>
              <a:t>dro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3568680"/>
          <a:ext cx="9144000" cy="2297160"/>
        </p:xfrm>
        <a:graphic>
          <a:graphicData uri="http://schemas.openxmlformats.org/drawingml/2006/table">
            <a:tbl>
              <a:tblPr/>
              <a:tblGrid>
                <a:gridCol w="2600280"/>
                <a:gridCol w="1793880"/>
                <a:gridCol w="2327400"/>
                <a:gridCol w="242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du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fant : é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fant : h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vail,é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rans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térieur/c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h / 4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 / 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46"/>
          <p:cNvSpPr/>
          <p:nvPr/>
        </p:nvSpPr>
        <p:spPr>
          <a:xfrm>
            <a:off x="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000"/>
                </a:solidFill>
                <a:latin typeface="Arial"/>
              </a:rPr>
              <a:t>Importante durée d'exposition à l'intéri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323-CD54-4FA9-982E-8B2541B55D62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s approche durable  (1) 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Logement : droits et rencontre de besoi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412640"/>
            <a:ext cx="8991720" cy="489564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Durabilité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tériaux, qualité de mise en oeuvre, adéquation fonctionnelle, adaptabilité/évolution des besoins des occupants ; T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chnologies nouvelles, amélioration des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rformances structurelles et de confor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Ecoefficience :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Optimalisation pour « faire + avec – 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tilisation rationnelle des ressources naturelles non renouvelables     Energie; Eau, occupation du sol, Matériaux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Réd . des émissions de gaz à effets de serre &amp; de la consom.d’énergie /d’eau pdt chantier et cycle de vie du produit   + 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tion déchets/recyclage/ confin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e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 /site d’enfouissement techniqu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éhabilitation des sols: couverture, drainage, surveillance, intégration paysagère; Respect environnement/ biodiversité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outenabilité :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ocio-économiqt accessible(coûts indirects) 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Habitabilité : avoir un toit mais aussi un chez-soi/protection,</a:t>
            </a: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bien-être/santé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alubrité du logement privé ou social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C8E-3349-459D-80AA-42373BF93E02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997360"/>
            <a:ext cx="93232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. de p</a:t>
            </a: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oll. +concentrés à l’intérieur qu’à l’extérieur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M10 ou PM2.5 ("PM" : "particulate matter", ici taille </a:t>
            </a:r>
            <a:r>
              <a:rPr b="0" lang="fr-BE" sz="18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10µm ou </a:t>
            </a:r>
            <a:r>
              <a:rPr b="0" lang="fr-BE" sz="18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2.5µm, </a:t>
            </a:r>
            <a:br>
              <a:rPr sz="1800"/>
            </a:b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avec pénétration plus aisée de particules les + fines dans les bâtiments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O (monoxyde de carbone),  NOx (oxydes d’azote)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OVT (composés organiques volatils totaux) ou COV individuels : hydrocarbures aromatiques, cétones, alcools, éthers, ...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dont cancérigènes (nicotine, benzène, formaldéhyde,…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Picture 7" descr="Manhattan_NYC076"/>
          <p:cNvPicPr/>
          <p:nvPr/>
        </p:nvPicPr>
        <p:blipFill>
          <a:blip r:embed="rId1"/>
          <a:stretch/>
        </p:blipFill>
        <p:spPr>
          <a:xfrm>
            <a:off x="0" y="981000"/>
            <a:ext cx="1584360" cy="1943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2843280" y="1341360"/>
            <a:ext cx="720720" cy="790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564000" y="141300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de l’air ex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21800" y="148428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796000" y="1341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Péné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à l’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236000" y="1341360"/>
            <a:ext cx="720720" cy="719280"/>
          </a:xfrm>
          <a:prstGeom prst="rightArrow">
            <a:avLst>
              <a:gd name="adj1" fmla="val 50000"/>
              <a:gd name="adj2" fmla="val 2505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 rot="5400000">
            <a:off x="3886200" y="2170080"/>
            <a:ext cx="720720" cy="790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>
              <a:alpha val="4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68360" y="5300640"/>
            <a:ext cx="194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lus d’isolation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Economie d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Lutte contre le b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203640" y="5516640"/>
            <a:ext cx="194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eu/pas de venti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Ni renouvel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d’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556000" y="5373720"/>
            <a:ext cx="72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5435640" y="537372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227640" y="5300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hoix des matériau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roduits et 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cktails d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roduits chim. Expositions combi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5084640"/>
            <a:ext cx="8964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oix pas toujours “durab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076720" y="1268280"/>
            <a:ext cx="720720" cy="719280"/>
          </a:xfrm>
          <a:prstGeom prst="rightArrow">
            <a:avLst>
              <a:gd name="adj1" fmla="val 50000"/>
              <a:gd name="adj2" fmla="val 2505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7451640" y="692280"/>
            <a:ext cx="16923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pô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s= f (fournitures, PM ,taille, ventilation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s approche durable (2) :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nv-Logt-Sté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1:08:34Z</dcterms:created>
  <dc:creator>AS</dc:creator>
  <dc:description/>
  <dc:language>en-US</dc:language>
  <cp:lastModifiedBy>Bénédicte Mercenier</cp:lastModifiedBy>
  <dcterms:modified xsi:type="dcterms:W3CDTF">2014-09-26T06:55:28Z</dcterms:modified>
  <cp:revision>11</cp:revision>
  <dc:subject/>
  <dc:title>Que peut apporter une approche intégrée Environnement-Logement_Santé dans le cas des enfants</dc:title>
</cp:coreProperties>
</file>