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1.jpeg" ContentType="image/jpeg"/>
  <Override PartName="/ppt/media/image20.wmf" ContentType="image/x-wmf"/>
  <Override PartName="/ppt/media/image19.png" ContentType="image/png"/>
  <Override PartName="/ppt/media/image3.jpeg" ContentType="image/jpeg"/>
  <Override PartName="/ppt/media/image18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2160"/>
            <a:ext cx="567828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56C22B1-D52E-4ED0-8649-814EAD8DA54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4625EC92-6CF8-451C-86D6-289F6EB5596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11000" y="4862160"/>
            <a:ext cx="567828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5 % territoire PV : 2x consommation électrique annu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080" y="274680"/>
            <a:ext cx="7643520" cy="24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35080" y="274680"/>
            <a:ext cx="7643520" cy="24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104760" y="6226200"/>
            <a:ext cx="595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369A-B208-419E-A880-A6FA7ED71195}" type="slidenum">
              <a:rPr b="1" lang="fr-FR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35080" y="274680"/>
            <a:ext cx="7643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8" descr="APERe"/>
          <p:cNvPicPr/>
          <p:nvPr/>
        </p:nvPicPr>
        <p:blipFill>
          <a:blip r:embed="rId2"/>
          <a:stretch/>
        </p:blipFill>
        <p:spPr>
          <a:xfrm>
            <a:off x="7951680" y="0"/>
            <a:ext cx="1192320" cy="835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104760" y="6226200"/>
            <a:ext cx="595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F7C4-4646-4E62-BABC-17F956BEBD56}" type="slidenum">
              <a:rPr b="1" lang="fr-FR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"/>
          <p:cNvSpPr/>
          <p:nvPr/>
        </p:nvSpPr>
        <p:spPr>
          <a:xfrm flipH="1">
            <a:off x="0" y="874800"/>
            <a:ext cx="9144000" cy="0"/>
          </a:xfrm>
          <a:prstGeom prst="line">
            <a:avLst/>
          </a:prstGeom>
          <a:ln w="255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6"/>
          <p:cNvSpPr/>
          <p:nvPr/>
        </p:nvSpPr>
        <p:spPr>
          <a:xfrm flipH="1">
            <a:off x="0" y="1295280"/>
            <a:ext cx="9144000" cy="0"/>
          </a:xfrm>
          <a:prstGeom prst="line">
            <a:avLst/>
          </a:prstGeom>
          <a:ln w="255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7"/>
          <p:cNvSpPr/>
          <p:nvPr/>
        </p:nvSpPr>
        <p:spPr>
          <a:xfrm>
            <a:off x="765000" y="-11160"/>
            <a:ext cx="0" cy="743040"/>
          </a:xfrm>
          <a:prstGeom prst="line">
            <a:avLst/>
          </a:prstGeom>
          <a:ln w="127080">
            <a:solidFill>
              <a:srgbClr val="99cc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8"/>
          <p:cNvSpPr/>
          <p:nvPr/>
        </p:nvSpPr>
        <p:spPr>
          <a:xfrm>
            <a:off x="352440" y="0"/>
            <a:ext cx="0" cy="1160640"/>
          </a:xfrm>
          <a:prstGeom prst="line">
            <a:avLst/>
          </a:prstGeom>
          <a:ln w="127080">
            <a:solidFill>
              <a:srgbClr val="00789b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348840"/>
            <a:ext cx="7947000" cy="11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99cc00"/>
                </a:solidFill>
                <a:latin typeface="Arial"/>
              </a:rPr>
              <a:t>Les Énergies renouvelables</a:t>
            </a:r>
            <a:br>
              <a:rPr sz="4000"/>
            </a:br>
            <a:r>
              <a:rPr b="1" lang="fr-BE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789b"/>
                </a:solidFill>
                <a:latin typeface="Arial"/>
              </a:rPr>
              <a:t>Hernieuwbare Energie</a:t>
            </a:r>
            <a:br>
              <a:rPr sz="2400"/>
            </a:br>
            <a:r>
              <a:rPr b="1" lang="fr-FR" sz="2400" spc="-1" strike="noStrike">
                <a:solidFill>
                  <a:srgbClr val="99cc00"/>
                </a:solidFill>
                <a:latin typeface="Arial"/>
              </a:rPr>
              <a:t>présenté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2684520" y="5245200"/>
            <a:ext cx="308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33399"/>
                </a:solidFill>
                <a:latin typeface="Arial"/>
              </a:rPr>
              <a:t>Gregory NEUBO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bedc78"/>
                </a:solidFill>
                <a:latin typeface="Arial"/>
              </a:rPr>
              <a:t>Chargé de projet </a:t>
            </a:r>
            <a:r>
              <a:rPr b="0" lang="fr-FR" sz="2200" spc="-1" strike="noStrike">
                <a:solidFill>
                  <a:srgbClr val="bedc78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APERe"/>
          <p:cNvPicPr/>
          <p:nvPr/>
        </p:nvPicPr>
        <p:blipFill>
          <a:blip r:embed="rId1"/>
          <a:stretch/>
        </p:blipFill>
        <p:spPr>
          <a:xfrm>
            <a:off x="2841480" y="2789280"/>
            <a:ext cx="3011760" cy="2109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4"/>
          <p:cNvSpPr/>
          <p:nvPr/>
        </p:nvSpPr>
        <p:spPr>
          <a:xfrm>
            <a:off x="36360" y="1987560"/>
            <a:ext cx="8729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99cc00"/>
                </a:solidFill>
                <a:latin typeface="Gill Sans"/>
              </a:rPr>
              <a:t>L’A</a:t>
            </a:r>
            <a:r>
              <a:rPr b="1" lang="fr-BE" sz="2400" spc="-1" strike="noStrike">
                <a:solidFill>
                  <a:srgbClr val="333399"/>
                </a:solidFill>
                <a:latin typeface="Gill Sans"/>
              </a:rPr>
              <a:t>ssociation pour la </a:t>
            </a:r>
            <a:r>
              <a:rPr b="1" lang="fr-BE" sz="2400" spc="-1" strike="noStrike">
                <a:solidFill>
                  <a:srgbClr val="99cc00"/>
                </a:solidFill>
                <a:latin typeface="Gill Sans"/>
              </a:rPr>
              <a:t>P</a:t>
            </a:r>
            <a:r>
              <a:rPr b="1" lang="fr-BE" sz="2400" spc="-1" strike="noStrike">
                <a:solidFill>
                  <a:srgbClr val="333399"/>
                </a:solidFill>
                <a:latin typeface="Gill Sans"/>
              </a:rPr>
              <a:t>romotion des </a:t>
            </a:r>
            <a:r>
              <a:rPr b="1" lang="fr-BE" sz="2400" spc="-1" strike="noStrike">
                <a:solidFill>
                  <a:srgbClr val="99cc00"/>
                </a:solidFill>
                <a:latin typeface="Gill Sans"/>
              </a:rPr>
              <a:t>É</a:t>
            </a:r>
            <a:r>
              <a:rPr b="1" lang="fr-BE" sz="2400" spc="-1" strike="noStrike">
                <a:solidFill>
                  <a:srgbClr val="333399"/>
                </a:solidFill>
                <a:latin typeface="Gill Sans"/>
              </a:rPr>
              <a:t>nergies </a:t>
            </a:r>
            <a:r>
              <a:rPr b="1" lang="fr-BE" sz="2400" spc="-1" strike="noStrike">
                <a:solidFill>
                  <a:srgbClr val="99cc00"/>
                </a:solidFill>
                <a:latin typeface="Gill Sans"/>
              </a:rPr>
              <a:t>Re</a:t>
            </a:r>
            <a:r>
              <a:rPr b="1" lang="fr-BE" sz="2400" spc="-1" strike="noStrike">
                <a:solidFill>
                  <a:srgbClr val="333399"/>
                </a:solidFill>
                <a:latin typeface="Gill Sans"/>
              </a:rPr>
              <a:t>nouvel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836640" y="3827520"/>
            <a:ext cx="81500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Oplossingen om ons energieverbruik te verminderen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De vraag in energie van het gebouw verlage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343080">
              <a:lnSpc>
                <a:spcPct val="100000"/>
              </a:lnSpc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een goede isolat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343080">
              <a:lnSpc>
                <a:spcPct val="100000"/>
              </a:lnSpc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rendement van de energie-omzetting : zo hoog mogelijk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99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Rationeel EnergieGebruik (RE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99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Hernieuwbare Energieën gebrui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513000" y="142920"/>
            <a:ext cx="7572240" cy="1157760"/>
            <a:chOff x="513000" y="142920"/>
            <a:chExt cx="7572240" cy="1157760"/>
          </a:xfrm>
        </p:grpSpPr>
        <p:sp>
          <p:nvSpPr>
            <p:cNvPr id="163" name="Rectangle 5"/>
            <p:cNvSpPr/>
            <p:nvPr/>
          </p:nvSpPr>
          <p:spPr>
            <a:xfrm>
              <a:off x="513000" y="914400"/>
              <a:ext cx="4152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2. Onze Energieverbruik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400" spc="-1" strike="noStrike">
                  <a:solidFill>
                    <a:srgbClr val="00789b"/>
                  </a:solidFill>
                  <a:latin typeface="Arial"/>
                </a:rPr>
                <a:t>2. Notre consommation d’énergie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Line 7"/>
          <p:cNvSpPr/>
          <p:nvPr/>
        </p:nvSpPr>
        <p:spPr>
          <a:xfrm>
            <a:off x="331920" y="1542960"/>
            <a:ext cx="0" cy="2062080"/>
          </a:xfrm>
          <a:prstGeom prst="line">
            <a:avLst/>
          </a:prstGeom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331920" y="3916440"/>
            <a:ext cx="0" cy="1914480"/>
          </a:xfrm>
          <a:prstGeom prst="line">
            <a:avLst/>
          </a:prstGeom>
          <a:ln w="633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712800" y="1479600"/>
            <a:ext cx="84312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89b"/>
                </a:solidFill>
                <a:latin typeface="Arial"/>
              </a:rPr>
              <a:t>Solutions pour diminuer notre consommation d’éner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Minimiser la demande en énergie du bâti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43080">
              <a:lnSpc>
                <a:spcPct val="100000"/>
              </a:lnSpc>
              <a:buClr>
                <a:srgbClr val="0078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Bonne isol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43080">
              <a:lnSpc>
                <a:spcPct val="100000"/>
              </a:lnSpc>
              <a:buClr>
                <a:srgbClr val="0078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Efficience énergétique :  équipements perform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789b"/>
                </a:solidFill>
                <a:latin typeface="Arial"/>
              </a:rPr>
              <a:t>Utilisation Rationnelle de l’ </a:t>
            </a: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É</a:t>
            </a:r>
            <a:r>
              <a:rPr b="0" lang="fr-FR" sz="1800" spc="-1" strike="noStrike">
                <a:solidFill>
                  <a:srgbClr val="00789b"/>
                </a:solidFill>
                <a:latin typeface="Arial"/>
              </a:rPr>
              <a:t>nergie (U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Utilisation des Énergies Renouvelabl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5080" y="186480"/>
            <a:ext cx="76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859320" y="142920"/>
            <a:ext cx="7225920" cy="1172520"/>
            <a:chOff x="859320" y="142920"/>
            <a:chExt cx="7225920" cy="1172520"/>
          </a:xfrm>
        </p:grpSpPr>
        <p:sp>
          <p:nvSpPr>
            <p:cNvPr id="170" name="Rectangle 8"/>
            <p:cNvSpPr/>
            <p:nvPr/>
          </p:nvSpPr>
          <p:spPr>
            <a:xfrm>
              <a:off x="859320" y="855720"/>
              <a:ext cx="38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3. Hernieuwbare Energieë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789b"/>
                  </a:solidFill>
                  <a:latin typeface="Arial"/>
                </a:rPr>
                <a:t>3. Les Énergies Renouvelables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AutoShape 26"/>
          <p:cNvSpPr/>
          <p:nvPr/>
        </p:nvSpPr>
        <p:spPr>
          <a:xfrm>
            <a:off x="3090960" y="1092240"/>
            <a:ext cx="3025800" cy="1284120"/>
          </a:xfrm>
          <a:prstGeom prst="rightArrow">
            <a:avLst>
              <a:gd name="adj1" fmla="val 50000"/>
              <a:gd name="adj2" fmla="val 58908"/>
            </a:avLst>
          </a:prstGeom>
          <a:solidFill>
            <a:srgbClr val="ff7c8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3244680" y="1374840"/>
            <a:ext cx="2692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Energies renouvel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Hernieuwbare Energieë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628640" y="2354400"/>
            <a:ext cx="5299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  <a:ea typeface="Arial"/>
              </a:rPr>
              <a:t>Eolienne sur terre et en m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  <a:ea typeface="Arial"/>
              </a:rPr>
              <a:t>Windmol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  <a:ea typeface="Arial"/>
              </a:rPr>
              <a:t>Centrale hydroélectriqu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  <a:ea typeface="Arial"/>
              </a:rPr>
              <a:t>hydraulische centra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789b"/>
                </a:solidFill>
                <a:uFillTx/>
                <a:latin typeface="Arial"/>
                <a:ea typeface="Arial"/>
              </a:rPr>
              <a:t>Chauffe-eau solaire - Syst. Photovoltaïq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Zonneboiler -  Fotovoltaïsche zonne-energ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 u="sng">
                <a:solidFill>
                  <a:srgbClr val="00789b"/>
                </a:solidFill>
                <a:uFillTx/>
                <a:latin typeface="Arial"/>
                <a:ea typeface="Arial"/>
              </a:rPr>
              <a:t>Équipement de </a:t>
            </a:r>
            <a:r>
              <a:rPr b="1" lang="fr-FR" sz="1600" spc="-1" strike="noStrike" u="sng">
                <a:solidFill>
                  <a:srgbClr val="00789b"/>
                </a:solidFill>
                <a:uFillTx/>
                <a:latin typeface="Arial"/>
                <a:ea typeface="Arial"/>
              </a:rPr>
              <a:t>combus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Verbrandingsuitrus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789b"/>
                </a:solidFill>
                <a:uFillTx/>
                <a:latin typeface="Arial"/>
                <a:ea typeface="Arial"/>
              </a:rPr>
              <a:t>Pompe à chaleur</a:t>
            </a:r>
            <a:r>
              <a:rPr b="1" lang="fr-FR" sz="1600" spc="-1" strike="noStrike">
                <a:solidFill>
                  <a:srgbClr val="00789b"/>
                </a:solidFill>
                <a:latin typeface="Arial"/>
                <a:ea typeface="Arial"/>
              </a:rPr>
              <a:t> -Puits géothermiq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Warmtepompen</a:t>
            </a:r>
            <a:r>
              <a:rPr b="1" lang="nl-NL" sz="1600" spc="-1" strike="noStrike">
                <a:solidFill>
                  <a:srgbClr val="009999"/>
                </a:solidFill>
                <a:latin typeface="Arial"/>
                <a:ea typeface="Arial"/>
              </a:rPr>
              <a:t> – Geothermische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6440400" y="1374840"/>
            <a:ext cx="2530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Forme utile d’énerg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Nuttige Energ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1"/>
          <p:cNvSpPr/>
          <p:nvPr/>
        </p:nvSpPr>
        <p:spPr>
          <a:xfrm>
            <a:off x="6156360" y="1332000"/>
            <a:ext cx="2987640" cy="78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5"/>
          <p:cNvSpPr/>
          <p:nvPr/>
        </p:nvSpPr>
        <p:spPr>
          <a:xfrm>
            <a:off x="-190440" y="2349360"/>
            <a:ext cx="3201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V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Wi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Cours d’eau - Marée – Vag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Rivier- Getijden - Golven</a:t>
            </a:r>
            <a:r>
              <a:rPr b="1" lang="fr-BE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Sole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Z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Biomasse (expl. Boi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Biomassa (bv. Hou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Géotherm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Geotherm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6"/>
          <p:cNvSpPr/>
          <p:nvPr/>
        </p:nvSpPr>
        <p:spPr>
          <a:xfrm>
            <a:off x="6459480" y="2349360"/>
            <a:ext cx="2772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789b"/>
                </a:solidFill>
                <a:latin typeface="Arial"/>
              </a:rPr>
              <a:t>Électricité –Travail</a:t>
            </a:r>
            <a:br>
              <a:rPr sz="1600"/>
            </a:b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Elektriciteit- Werk</a:t>
            </a:r>
            <a:br>
              <a:rPr sz="1600"/>
            </a:br>
            <a:br>
              <a:rPr sz="1600"/>
            </a:br>
            <a:r>
              <a:rPr b="1" lang="fr-BE" sz="1600" spc="-1" strike="noStrike">
                <a:solidFill>
                  <a:srgbClr val="00789b"/>
                </a:solidFill>
                <a:latin typeface="Arial"/>
              </a:rPr>
              <a:t>Électricité </a:t>
            </a:r>
            <a:br>
              <a:rPr sz="1600"/>
            </a:b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Elektriciteit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789b"/>
                </a:solidFill>
                <a:latin typeface="Arial"/>
              </a:rPr>
              <a:t>Électricité – chaleur/froid</a:t>
            </a:r>
            <a:br>
              <a:rPr sz="1600"/>
            </a:b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Elektriciteit – warmte/kou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fr-BE" sz="1600" spc="-1" strike="noStrike">
                <a:solidFill>
                  <a:srgbClr val="00789b"/>
                </a:solidFill>
                <a:latin typeface="Arial"/>
              </a:rPr>
              <a:t>Chaleur - Carbura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Warmte – Brandsto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89b"/>
                </a:solidFill>
                <a:latin typeface="Arial"/>
              </a:rPr>
              <a:t>Chaleur - Fro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9999"/>
                </a:solidFill>
                <a:latin typeface="Arial"/>
              </a:rPr>
              <a:t>Warmte - Kou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7"/>
          <p:cNvSpPr/>
          <p:nvPr/>
        </p:nvSpPr>
        <p:spPr>
          <a:xfrm>
            <a:off x="11160" y="3038400"/>
            <a:ext cx="9144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9"/>
          <p:cNvSpPr/>
          <p:nvPr/>
        </p:nvSpPr>
        <p:spPr>
          <a:xfrm>
            <a:off x="11160" y="4510080"/>
            <a:ext cx="9144000" cy="7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66"/>
          <p:cNvGrpSpPr/>
          <p:nvPr/>
        </p:nvGrpSpPr>
        <p:grpSpPr>
          <a:xfrm>
            <a:off x="-3240" y="1355760"/>
            <a:ext cx="3241800" cy="738000"/>
            <a:chOff x="-3240" y="1355760"/>
            <a:chExt cx="3241800" cy="738000"/>
          </a:xfrm>
        </p:grpSpPr>
        <p:sp>
          <p:nvSpPr>
            <p:cNvPr id="182" name="Text Box 34"/>
            <p:cNvSpPr/>
            <p:nvPr/>
          </p:nvSpPr>
          <p:spPr>
            <a:xfrm>
              <a:off x="-3240" y="1374840"/>
              <a:ext cx="324180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789b"/>
                  </a:solidFill>
                  <a:latin typeface="Arial"/>
                </a:rPr>
                <a:t>Source d’énergie renouvelabl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9999"/>
                  </a:solidFill>
                  <a:latin typeface="Arial"/>
                </a:rPr>
                <a:t>Hernieuwbare energiebronne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43"/>
            <p:cNvSpPr/>
            <p:nvPr/>
          </p:nvSpPr>
          <p:spPr>
            <a:xfrm>
              <a:off x="49320" y="1355760"/>
              <a:ext cx="3039840" cy="73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AutoShape 71"/>
          <p:cNvSpPr/>
          <p:nvPr/>
        </p:nvSpPr>
        <p:spPr>
          <a:xfrm>
            <a:off x="1979640" y="2611440"/>
            <a:ext cx="546120" cy="160200"/>
          </a:xfrm>
          <a:prstGeom prst="rightArrow">
            <a:avLst>
              <a:gd name="adj1" fmla="val 50000"/>
              <a:gd name="adj2" fmla="val 852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2"/>
          <p:cNvSpPr/>
          <p:nvPr/>
        </p:nvSpPr>
        <p:spPr>
          <a:xfrm>
            <a:off x="2602080" y="3335400"/>
            <a:ext cx="545760" cy="160200"/>
          </a:xfrm>
          <a:prstGeom prst="rightArrow">
            <a:avLst>
              <a:gd name="adj1" fmla="val 50000"/>
              <a:gd name="adj2" fmla="val 851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3"/>
          <p:cNvSpPr/>
          <p:nvPr/>
        </p:nvSpPr>
        <p:spPr>
          <a:xfrm>
            <a:off x="1743120" y="4057560"/>
            <a:ext cx="385560" cy="171720"/>
          </a:xfrm>
          <a:prstGeom prst="rightArrow">
            <a:avLst>
              <a:gd name="adj1" fmla="val 50000"/>
              <a:gd name="adj2" fmla="val 561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4"/>
          <p:cNvSpPr/>
          <p:nvPr/>
        </p:nvSpPr>
        <p:spPr>
          <a:xfrm>
            <a:off x="2430360" y="4824360"/>
            <a:ext cx="546120" cy="160560"/>
          </a:xfrm>
          <a:prstGeom prst="rightArrow">
            <a:avLst>
              <a:gd name="adj1" fmla="val 50000"/>
              <a:gd name="adj2" fmla="val 850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5"/>
          <p:cNvSpPr/>
          <p:nvPr/>
        </p:nvSpPr>
        <p:spPr>
          <a:xfrm>
            <a:off x="2052720" y="5502240"/>
            <a:ext cx="387360" cy="160200"/>
          </a:xfrm>
          <a:prstGeom prst="rightArrow">
            <a:avLst>
              <a:gd name="adj1" fmla="val 50000"/>
              <a:gd name="adj2" fmla="val 60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6"/>
          <p:cNvSpPr/>
          <p:nvPr/>
        </p:nvSpPr>
        <p:spPr>
          <a:xfrm>
            <a:off x="5815080" y="2608200"/>
            <a:ext cx="546120" cy="160560"/>
          </a:xfrm>
          <a:prstGeom prst="rightArrow">
            <a:avLst>
              <a:gd name="adj1" fmla="val 50000"/>
              <a:gd name="adj2" fmla="val 850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7"/>
          <p:cNvSpPr/>
          <p:nvPr/>
        </p:nvSpPr>
        <p:spPr>
          <a:xfrm>
            <a:off x="5702400" y="3333600"/>
            <a:ext cx="546120" cy="160560"/>
          </a:xfrm>
          <a:prstGeom prst="rightArrow">
            <a:avLst>
              <a:gd name="adj1" fmla="val 50000"/>
              <a:gd name="adj2" fmla="val 850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8"/>
          <p:cNvSpPr/>
          <p:nvPr/>
        </p:nvSpPr>
        <p:spPr>
          <a:xfrm>
            <a:off x="6283440" y="4051440"/>
            <a:ext cx="260280" cy="160200"/>
          </a:xfrm>
          <a:prstGeom prst="rightArrow">
            <a:avLst>
              <a:gd name="adj1" fmla="val 50000"/>
              <a:gd name="adj2" fmla="val 406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9"/>
          <p:cNvSpPr/>
          <p:nvPr/>
        </p:nvSpPr>
        <p:spPr>
          <a:xfrm>
            <a:off x="6013440" y="4824360"/>
            <a:ext cx="546120" cy="160560"/>
          </a:xfrm>
          <a:prstGeom prst="rightArrow">
            <a:avLst>
              <a:gd name="adj1" fmla="val 50000"/>
              <a:gd name="adj2" fmla="val 850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0"/>
          <p:cNvSpPr/>
          <p:nvPr/>
        </p:nvSpPr>
        <p:spPr>
          <a:xfrm>
            <a:off x="6249960" y="5502240"/>
            <a:ext cx="546120" cy="160200"/>
          </a:xfrm>
          <a:prstGeom prst="rightArrow">
            <a:avLst>
              <a:gd name="adj1" fmla="val 50000"/>
              <a:gd name="adj2" fmla="val 852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5080" y="186480"/>
            <a:ext cx="76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3"/>
          <p:cNvGrpSpPr/>
          <p:nvPr/>
        </p:nvGrpSpPr>
        <p:grpSpPr>
          <a:xfrm>
            <a:off x="859320" y="142920"/>
            <a:ext cx="7225920" cy="1172520"/>
            <a:chOff x="859320" y="142920"/>
            <a:chExt cx="7225920" cy="1172520"/>
          </a:xfrm>
        </p:grpSpPr>
        <p:sp>
          <p:nvSpPr>
            <p:cNvPr id="196" name="Rectangle 14"/>
            <p:cNvSpPr/>
            <p:nvPr/>
          </p:nvSpPr>
          <p:spPr>
            <a:xfrm>
              <a:off x="859320" y="855720"/>
              <a:ext cx="38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3. Hernieuwbare Energieë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5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789b"/>
                  </a:solidFill>
                  <a:latin typeface="Arial"/>
                </a:rPr>
                <a:t>3. Les Énergies Renouvelables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Line 16"/>
          <p:cNvSpPr/>
          <p:nvPr/>
        </p:nvSpPr>
        <p:spPr>
          <a:xfrm>
            <a:off x="331920" y="1542960"/>
            <a:ext cx="0" cy="1806840"/>
          </a:xfrm>
          <a:prstGeom prst="line">
            <a:avLst/>
          </a:prstGeom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331920" y="3916440"/>
            <a:ext cx="0" cy="1914480"/>
          </a:xfrm>
          <a:prstGeom prst="line">
            <a:avLst/>
          </a:prstGeom>
          <a:ln w="633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712800" y="1479600"/>
            <a:ext cx="7808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Intérêts  environnementau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Réduction des émissions des gaz à effet de ser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Réduction de  la pollution de l’air, de l’eau, du sol et de la  </a:t>
            </a:r>
            <a:br>
              <a:rPr sz="1800"/>
            </a:b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 biosphèr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Limitation des risques (impacts d’éventuels accid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Préservation des stock de ressources naturel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836640" y="3816360"/>
            <a:ext cx="780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9999"/>
                </a:solidFill>
                <a:latin typeface="Arial"/>
              </a:rPr>
              <a:t>Milieubela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Uitstootvermindering van broeikasgass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Vermindering lucht-, water en bodemverontreini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Risico's Bepe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Bescherming van de voorraad van natuurlijke hulpbron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1" descr="MCj04061040000[1]"/>
          <p:cNvPicPr/>
          <p:nvPr/>
        </p:nvPicPr>
        <p:blipFill>
          <a:blip r:embed="rId1"/>
          <a:stretch/>
        </p:blipFill>
        <p:spPr>
          <a:xfrm>
            <a:off x="7899480" y="1341360"/>
            <a:ext cx="9460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080" y="186480"/>
            <a:ext cx="76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859320" y="142920"/>
            <a:ext cx="7225920" cy="1172520"/>
            <a:chOff x="859320" y="142920"/>
            <a:chExt cx="7225920" cy="1172520"/>
          </a:xfrm>
        </p:grpSpPr>
        <p:sp>
          <p:nvSpPr>
            <p:cNvPr id="205" name="Rectangle 4"/>
            <p:cNvSpPr/>
            <p:nvPr/>
          </p:nvSpPr>
          <p:spPr>
            <a:xfrm>
              <a:off x="859320" y="855720"/>
              <a:ext cx="38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3. Hernieuwbare Energieë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789b"/>
                  </a:solidFill>
                  <a:latin typeface="Arial"/>
                </a:rPr>
                <a:t>3. Les Énergies Renouvelables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6"/>
          <p:cNvSpPr/>
          <p:nvPr/>
        </p:nvSpPr>
        <p:spPr>
          <a:xfrm>
            <a:off x="331920" y="1542960"/>
            <a:ext cx="0" cy="1806840"/>
          </a:xfrm>
          <a:prstGeom prst="line">
            <a:avLst/>
          </a:prstGeom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331920" y="3916440"/>
            <a:ext cx="0" cy="1914480"/>
          </a:xfrm>
          <a:prstGeom prst="line">
            <a:avLst/>
          </a:prstGeom>
          <a:ln w="633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712800" y="1403280"/>
            <a:ext cx="7808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Intérêts  économiq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Garantie d’un prix stable de l’énergie moins sensible aux </a:t>
            </a:r>
            <a:br>
              <a:rPr sz="1800"/>
            </a:b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  fluctuations du marché des combustibles foss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Renforcement de  l’économie locale par le développement de </a:t>
            </a:r>
            <a:br>
              <a:rPr sz="1800"/>
            </a:b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  petites et moyennes entrepri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Diminution de notre dépendance énergét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836640" y="3892680"/>
            <a:ext cx="83073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9999"/>
                </a:solidFill>
                <a:latin typeface="Arial"/>
              </a:rPr>
              <a:t>Economische bela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Zij garanderen een stabiele prijs  (minder marktschommeling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Versterking van  de plaatselijke economie door de ontwikkeling van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  kleine en middelgrote ondernemi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Vermindering van  onze energieafhankelijkhe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MCBS00508_0000[1]"/>
          <p:cNvPicPr/>
          <p:nvPr/>
        </p:nvPicPr>
        <p:blipFill>
          <a:blip r:embed="rId1"/>
          <a:stretch/>
        </p:blipFill>
        <p:spPr>
          <a:xfrm>
            <a:off x="7843680" y="1339920"/>
            <a:ext cx="11862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5080" y="186480"/>
            <a:ext cx="76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859320" y="142920"/>
            <a:ext cx="7225920" cy="1172520"/>
            <a:chOff x="859320" y="142920"/>
            <a:chExt cx="7225920" cy="1172520"/>
          </a:xfrm>
        </p:grpSpPr>
        <p:sp>
          <p:nvSpPr>
            <p:cNvPr id="214" name="Rectangle 4"/>
            <p:cNvSpPr/>
            <p:nvPr/>
          </p:nvSpPr>
          <p:spPr>
            <a:xfrm>
              <a:off x="859320" y="855720"/>
              <a:ext cx="38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3. Hernieuwbare Energieë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5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789b"/>
                  </a:solidFill>
                  <a:latin typeface="Arial"/>
                </a:rPr>
                <a:t>3. Les Énergies Renouvelables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Line 6"/>
          <p:cNvSpPr/>
          <p:nvPr/>
        </p:nvSpPr>
        <p:spPr>
          <a:xfrm>
            <a:off x="331920" y="1542960"/>
            <a:ext cx="0" cy="1806840"/>
          </a:xfrm>
          <a:prstGeom prst="line">
            <a:avLst/>
          </a:prstGeom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331920" y="3868560"/>
            <a:ext cx="0" cy="1914840"/>
          </a:xfrm>
          <a:prstGeom prst="line">
            <a:avLst/>
          </a:prstGeom>
          <a:ln w="633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568440" y="1403280"/>
            <a:ext cx="795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Intérêts  sociau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 </a:t>
            </a:r>
            <a:r>
              <a:rPr b="0" lang="fr-BE" sz="1800" spc="-1" strike="noStrike">
                <a:solidFill>
                  <a:srgbClr val="00789b"/>
                </a:solidFill>
                <a:latin typeface="Verdana"/>
              </a:rPr>
              <a:t>Création d’emplois durables et peu sensibles aux délocalis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789b"/>
                </a:solidFill>
                <a:latin typeface="Verdana"/>
              </a:rPr>
              <a:t> </a:t>
            </a:r>
            <a:r>
              <a:rPr b="0" lang="fr-BE" sz="1800" spc="-1" strike="noStrike">
                <a:solidFill>
                  <a:srgbClr val="00789b"/>
                </a:solidFill>
                <a:latin typeface="Verdana"/>
              </a:rPr>
              <a:t>Contribution à la réduction des tensions internation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789b"/>
                </a:solidFill>
                <a:latin typeface="Verdana"/>
              </a:rPr>
              <a:t> </a:t>
            </a:r>
            <a:r>
              <a:rPr b="0" lang="fr-BE" sz="1800" spc="-1" strike="noStrike">
                <a:solidFill>
                  <a:srgbClr val="00789b"/>
                </a:solidFill>
                <a:latin typeface="Verdana"/>
              </a:rPr>
              <a:t>Constituent un excellent vecteur d’éducation à l’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00040" y="3821040"/>
            <a:ext cx="86439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9999"/>
                </a:solidFill>
                <a:latin typeface="Arial"/>
              </a:rPr>
              <a:t>Sociale bela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Het bevordert werkgelegenhe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Vermindering van de geopolitieke spanni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Opvoedingvector van rationeel energiegebruik (REG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MCj01557230000[1]"/>
          <p:cNvPicPr/>
          <p:nvPr/>
        </p:nvPicPr>
        <p:blipFill>
          <a:blip r:embed="rId1"/>
          <a:stretch/>
        </p:blipFill>
        <p:spPr>
          <a:xfrm>
            <a:off x="7107120" y="3247920"/>
            <a:ext cx="179568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859320" y="142920"/>
            <a:ext cx="7225920" cy="1172520"/>
            <a:chOff x="859320" y="142920"/>
            <a:chExt cx="7225920" cy="1172520"/>
          </a:xfrm>
        </p:grpSpPr>
        <p:sp>
          <p:nvSpPr>
            <p:cNvPr id="223" name="Rectangle 4"/>
            <p:cNvSpPr/>
            <p:nvPr/>
          </p:nvSpPr>
          <p:spPr>
            <a:xfrm>
              <a:off x="859320" y="855720"/>
              <a:ext cx="38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3. Hernieuwbare Energieë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789b"/>
                  </a:solidFill>
                  <a:latin typeface="Arial"/>
                </a:rPr>
                <a:t>3. Les Énergies Renouvelables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8"/>
          <p:cNvSpPr/>
          <p:nvPr/>
        </p:nvSpPr>
        <p:spPr>
          <a:xfrm>
            <a:off x="568440" y="1403280"/>
            <a:ext cx="795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Potentiel théorique énorme / </a:t>
            </a:r>
            <a:r>
              <a:rPr b="1" lang="nl-NL" sz="1800" spc="-1" strike="noStrike">
                <a:solidFill>
                  <a:srgbClr val="009999"/>
                </a:solidFill>
                <a:latin typeface="Arial"/>
              </a:rPr>
              <a:t>Enorm theoretisch potentie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1280" y="1994040"/>
          <a:ext cx="8940960" cy="4271760"/>
        </p:xfrm>
        <a:graphic>
          <a:graphicData uri="http://schemas.openxmlformats.org/drawingml/2006/table">
            <a:tbl>
              <a:tblPr/>
              <a:tblGrid>
                <a:gridCol w="1849680"/>
                <a:gridCol w="2943000"/>
                <a:gridCol w="4148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r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source énergétique annuelle primaire ou bru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source énergétique annuelle - forme utile des technologies actuell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e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00 GWh/km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leur : 390 GWh</a:t>
                      </a:r>
                      <a:r>
                        <a:rPr b="0" lang="fr-BE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km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icité : 100 GWh</a:t>
                      </a:r>
                      <a:r>
                        <a:rPr b="0" lang="fr-BE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km²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 (terre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 déterminé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icité : 9 à 25 GWh</a:t>
                      </a:r>
                      <a:r>
                        <a:rPr b="0" lang="fr-BE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km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 (mer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 déterminé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icité : 17 à 39 GWh</a:t>
                      </a:r>
                      <a:r>
                        <a:rPr b="0" lang="fr-BE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km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 d’eau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 déterminé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icité : 400 à 700 GWh</a:t>
                      </a:r>
                      <a:r>
                        <a:rPr b="0" lang="fr-BE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Parc de 110 à 150 MW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ants marins et vagu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 déterminé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épend des surfaces exploitées, vitesses du flux et amplitudes des vagues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mass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GWh/km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leur : 3 à 4,8 GWh</a:t>
                      </a:r>
                      <a:r>
                        <a:rPr b="0" lang="fr-BE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km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icité 0,6 à 1,8 GWh</a:t>
                      </a:r>
                      <a:r>
                        <a:rPr b="0" lang="fr-BE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km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leur naturel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 déterminé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ient moyen de +30°C/k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épend de la t° et de la capacité de renouvellement de la sour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858600" y="85572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9999"/>
                </a:solidFill>
                <a:latin typeface="Arial"/>
              </a:rPr>
              <a:t>4. De Zonneboiler - voorbeel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963720" y="142920"/>
            <a:ext cx="712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89b"/>
                </a:solidFill>
                <a:latin typeface="Arial"/>
              </a:rPr>
              <a:t>4. Le CES – exe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DSCN3437"/>
          <p:cNvPicPr/>
          <p:nvPr/>
        </p:nvPicPr>
        <p:blipFill>
          <a:blip r:embed="rId1"/>
          <a:stretch/>
        </p:blipFill>
        <p:spPr>
          <a:xfrm>
            <a:off x="581040" y="2340000"/>
            <a:ext cx="4122720" cy="3092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051012_Soleil-Soleil-bq"/>
          <p:cNvPicPr/>
          <p:nvPr/>
        </p:nvPicPr>
        <p:blipFill>
          <a:blip r:embed="rId2"/>
          <a:stretch/>
        </p:blipFill>
        <p:spPr>
          <a:xfrm>
            <a:off x="5021280" y="2503440"/>
            <a:ext cx="3905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859680" y="142920"/>
            <a:ext cx="7225560" cy="1172520"/>
            <a:chOff x="859680" y="142920"/>
            <a:chExt cx="7225560" cy="1172520"/>
          </a:xfrm>
        </p:grpSpPr>
        <p:sp>
          <p:nvSpPr>
            <p:cNvPr id="233" name="Rectangle 4"/>
            <p:cNvSpPr/>
            <p:nvPr/>
          </p:nvSpPr>
          <p:spPr>
            <a:xfrm>
              <a:off x="859680" y="855720"/>
              <a:ext cx="622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4. De Zonneboiler – Voorbeelden van kost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789b"/>
                  </a:solidFill>
                  <a:latin typeface="Arial"/>
                </a:rPr>
                <a:t>4. Le CES – Exemples de coûts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" name=""/>
          <p:cNvGraphicFramePr/>
          <p:nvPr/>
        </p:nvGraphicFramePr>
        <p:xfrm>
          <a:off x="0" y="1370160"/>
          <a:ext cx="9118440" cy="3590640"/>
        </p:xfrm>
        <a:graphic>
          <a:graphicData uri="http://schemas.openxmlformats.org/drawingml/2006/table">
            <a:tbl>
              <a:tblPr/>
              <a:tblGrid>
                <a:gridCol w="3265560"/>
                <a:gridCol w="973080"/>
                <a:gridCol w="928800"/>
                <a:gridCol w="914400"/>
                <a:gridCol w="3036600"/>
              </a:tblGrid>
              <a:tr h="94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Installation solaire thermique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 (5 m²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4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RB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4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RW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4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Zonneboiler installatie </a:t>
                      </a:r>
                      <a:br>
                        <a:rPr sz="1600"/>
                      </a:br>
                      <a:r>
                        <a:rPr b="1" lang="nl-NL" sz="16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(5 m²)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Matériel + install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Materia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Primes régionale, provinciale &amp; communale (moyenn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-3.375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-2.47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- 80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Regionale, provinciale en gemeentelijke premi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gemiddeld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Réduction d'impôt (40% max 3.440 €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Fiscale Vermindering (40 % max.3.440 €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Investissement (€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 €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0  €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00 €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Investering (€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Coût kWh (c€) Avec primes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kWh kost (c€) met premi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734"/>
          <p:cNvSpPr/>
          <p:nvPr/>
        </p:nvSpPr>
        <p:spPr>
          <a:xfrm>
            <a:off x="0" y="4998960"/>
            <a:ext cx="4216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789b"/>
                </a:solidFill>
                <a:latin typeface="Arial"/>
              </a:rPr>
              <a:t>*sur base de l’énergie nécessaire pour une production équivalent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789b"/>
                </a:solidFill>
                <a:latin typeface="Arial"/>
              </a:rPr>
              <a:t>avec un système classique pendant 25 an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4"/>
          <p:cNvGrpSpPr/>
          <p:nvPr/>
        </p:nvGrpSpPr>
        <p:grpSpPr>
          <a:xfrm>
            <a:off x="658800" y="142920"/>
            <a:ext cx="7405200" cy="1538280"/>
            <a:chOff x="658800" y="142920"/>
            <a:chExt cx="7405200" cy="1538280"/>
          </a:xfrm>
        </p:grpSpPr>
        <p:sp>
          <p:nvSpPr>
            <p:cNvPr id="238" name="Rectangle 5"/>
            <p:cNvSpPr/>
            <p:nvPr/>
          </p:nvSpPr>
          <p:spPr>
            <a:xfrm>
              <a:off x="658800" y="855720"/>
              <a:ext cx="698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4. De Zonneboiler - kostenvergelijking van de kWh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766080" y="142920"/>
              <a:ext cx="72979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789b"/>
                  </a:solidFill>
                  <a:latin typeface="Arial"/>
                </a:rPr>
                <a:t>4. Le CES – Comparaison du coût du kWh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2"/>
          <p:cNvSpPr/>
          <p:nvPr/>
        </p:nvSpPr>
        <p:spPr>
          <a:xfrm>
            <a:off x="0" y="7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88920" y="1440000"/>
          <a:ext cx="8780400" cy="4390920"/>
        </p:xfrm>
        <a:graphic>
          <a:graphicData uri="http://schemas.openxmlformats.org/drawingml/2006/table">
            <a:tbl>
              <a:tblPr/>
              <a:tblGrid>
                <a:gridCol w="623880"/>
                <a:gridCol w="579600"/>
                <a:gridCol w="887400"/>
                <a:gridCol w="1565280"/>
                <a:gridCol w="914400"/>
                <a:gridCol w="1844640"/>
                <a:gridCol w="1030320"/>
                <a:gridCol w="1334880"/>
              </a:tblGrid>
              <a:tr h="5202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-janv-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ix achat énergie TVA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it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ix achat énergie /kW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utres fra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nnées sourc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 rowSpan="3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ûches (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éché sous abri 1 an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5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€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/stèr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vrais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alBio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laquettes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30%HR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€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/ma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vrais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alBio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ranulé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3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€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/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vrais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alBio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zou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vraison supérieur à 2000 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9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€/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vrais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P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pa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rac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2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€/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vrais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uteill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8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€/k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vrais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az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atur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3 - 5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€/kW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3 - 5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RUG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lectricité</a:t>
                      </a:r>
                      <a:br>
                        <a:rPr sz="1400"/>
                      </a:b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i-horair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,6 - 21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€/kW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,6 - 2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lectricité</a:t>
                      </a:r>
                      <a:br>
                        <a:rPr sz="1400"/>
                      </a:b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imp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,9 - 23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€/kW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,9 - 23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658800" y="142920"/>
            <a:ext cx="7405200" cy="1538280"/>
            <a:chOff x="658800" y="142920"/>
            <a:chExt cx="7405200" cy="1538280"/>
          </a:xfrm>
        </p:grpSpPr>
        <p:sp>
          <p:nvSpPr>
            <p:cNvPr id="243" name="Rectangle 3"/>
            <p:cNvSpPr/>
            <p:nvPr/>
          </p:nvSpPr>
          <p:spPr>
            <a:xfrm>
              <a:off x="658800" y="855720"/>
              <a:ext cx="698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4. De Zonneboiler - kostenvergelijking van de kWh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"/>
            <p:cNvSpPr/>
            <p:nvPr/>
          </p:nvSpPr>
          <p:spPr>
            <a:xfrm>
              <a:off x="766080" y="142920"/>
              <a:ext cx="72979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789b"/>
                  </a:solidFill>
                  <a:latin typeface="Arial"/>
                </a:rPr>
                <a:t>4. Le CES – Comparaison du coût du kWh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5"/>
          <p:cNvSpPr/>
          <p:nvPr/>
        </p:nvSpPr>
        <p:spPr>
          <a:xfrm>
            <a:off x="0" y="7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352440" y="1371600"/>
            <a:ext cx="8180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4"/>
          <p:cNvSpPr/>
          <p:nvPr/>
        </p:nvSpPr>
        <p:spPr>
          <a:xfrm>
            <a:off x="1274760" y="142920"/>
            <a:ext cx="712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89b"/>
                </a:solidFill>
                <a:latin typeface="Arial"/>
              </a:rPr>
              <a:t>Plan de la confé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1124640" y="85572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9999"/>
                </a:solidFill>
                <a:latin typeface="Arial"/>
              </a:rPr>
              <a:t>Plan van de bespre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1321920"/>
            <a:ext cx="4614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78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789b"/>
                </a:solidFill>
                <a:latin typeface="Arial"/>
              </a:rPr>
              <a:t>L’AP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78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789b"/>
                </a:solidFill>
                <a:latin typeface="Arial"/>
              </a:rPr>
              <a:t>Notre consommation d’éner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78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789b"/>
                </a:solidFill>
                <a:latin typeface="Arial"/>
              </a:rPr>
              <a:t>Les Energies renouvel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78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789b"/>
                </a:solidFill>
                <a:latin typeface="Arial"/>
              </a:rPr>
              <a:t>Le chauffe-eau sola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78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789b"/>
                </a:solidFill>
                <a:latin typeface="Arial"/>
              </a:rPr>
              <a:t>Le photovoltaï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4514760" y="1413000"/>
            <a:ext cx="46148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9999"/>
                </a:solidFill>
                <a:latin typeface="Arial"/>
              </a:rPr>
              <a:t>APE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9999"/>
                </a:solidFill>
                <a:latin typeface="Arial"/>
              </a:rPr>
              <a:t>Onze Energieverbrui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9999"/>
                </a:solidFill>
                <a:latin typeface="Arial"/>
              </a:rPr>
              <a:t>Hernieuwbare Energiebron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9999"/>
                </a:solidFill>
                <a:latin typeface="Arial"/>
              </a:rPr>
              <a:t>De Zonneboil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9999"/>
                </a:solidFill>
                <a:latin typeface="Arial"/>
              </a:rPr>
              <a:t>Fotovoltaïsche zonne-energi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3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3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35080" y="186480"/>
            <a:ext cx="76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856800" y="142920"/>
            <a:ext cx="7228440" cy="1538280"/>
            <a:chOff x="856800" y="142920"/>
            <a:chExt cx="7228440" cy="1538280"/>
          </a:xfrm>
        </p:grpSpPr>
        <p:sp>
          <p:nvSpPr>
            <p:cNvPr id="249" name="Rectangle 5"/>
            <p:cNvSpPr/>
            <p:nvPr/>
          </p:nvSpPr>
          <p:spPr>
            <a:xfrm>
              <a:off x="856800" y="855720"/>
              <a:ext cx="453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5. Fotovoltaïsche zonne-energi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6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5. Le Photovoltaïque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7" descr="Copie de montage01"/>
          <p:cNvPicPr/>
          <p:nvPr/>
        </p:nvPicPr>
        <p:blipFill>
          <a:blip r:embed="rId1"/>
          <a:stretch/>
        </p:blipFill>
        <p:spPr>
          <a:xfrm>
            <a:off x="201600" y="1828800"/>
            <a:ext cx="4716360" cy="3084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vue03"/>
          <p:cNvPicPr/>
          <p:nvPr/>
        </p:nvPicPr>
        <p:blipFill>
          <a:blip r:embed="rId2"/>
          <a:stretch/>
        </p:blipFill>
        <p:spPr>
          <a:xfrm>
            <a:off x="4381560" y="24764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852120" y="142920"/>
            <a:ext cx="7233120" cy="1446840"/>
            <a:chOff x="852120" y="142920"/>
            <a:chExt cx="7233120" cy="1446840"/>
          </a:xfrm>
        </p:grpSpPr>
        <p:sp>
          <p:nvSpPr>
            <p:cNvPr id="255" name="Rectangle 5"/>
            <p:cNvSpPr/>
            <p:nvPr/>
          </p:nvSpPr>
          <p:spPr>
            <a:xfrm>
              <a:off x="852120" y="855720"/>
              <a:ext cx="57556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009999"/>
                  </a:solidFill>
                  <a:latin typeface="Arial"/>
                </a:rPr>
                <a:t>5. </a:t>
              </a:r>
              <a:r>
                <a:rPr b="1" lang="nl-NL" sz="1800" spc="-1" strike="noStrike">
                  <a:solidFill>
                    <a:srgbClr val="009999"/>
                  </a:solidFill>
                  <a:latin typeface="Arial"/>
                </a:rPr>
                <a:t>Fotovoltaïsche zonne-energie – premies en prij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5. </a:t>
              </a:r>
              <a:r>
                <a:rPr b="1" lang="fr-FR" sz="2800" spc="-1" strike="noStrike">
                  <a:solidFill>
                    <a:srgbClr val="00789b"/>
                  </a:solidFill>
                  <a:latin typeface="Arial"/>
                </a:rPr>
                <a:t>Le Photovoltaïque – primes et prix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357120" y="1355760"/>
          <a:ext cx="8715600" cy="2590920"/>
        </p:xfrm>
        <a:graphic>
          <a:graphicData uri="http://schemas.openxmlformats.org/drawingml/2006/table">
            <a:tbl>
              <a:tblPr/>
              <a:tblGrid>
                <a:gridCol w="3036960"/>
                <a:gridCol w="1012680"/>
                <a:gridCol w="889200"/>
                <a:gridCol w="874800"/>
                <a:gridCol w="2901960"/>
              </a:tblGrid>
              <a:tr h="73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Installation photovoltaïqu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 (12 m² = ~ 1000 KWh/an 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4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RB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4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RW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4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fotovoltaïsche installati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(12 m² = ~ 1000 KWh/an 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Matériel + install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0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0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00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Materia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Primes régionale, provinciale &amp; communale (moyenn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fr-BE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3.75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0" lang="fr-BE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.75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—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Regionale, provinciale en gemeentelijke premi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gemiddeld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Réduction d'impôt 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(40% max 3.440 €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-3.44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-3.44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-3.440 €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Fiscale Vermindering </a:t>
                      </a:r>
                      <a:br>
                        <a:rPr sz="1400"/>
                      </a:b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(40 % max.3.440 €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Investissement (€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10 €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10  €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60 €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Investering (€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57120" y="4143240"/>
          <a:ext cx="8715600" cy="928800"/>
        </p:xfrm>
        <a:graphic>
          <a:graphicData uri="http://schemas.openxmlformats.org/drawingml/2006/table">
            <a:tbl>
              <a:tblPr/>
              <a:tblGrid>
                <a:gridCol w="3036960"/>
                <a:gridCol w="1012680"/>
                <a:gridCol w="890640"/>
                <a:gridCol w="873360"/>
                <a:gridCol w="2901960"/>
              </a:tblGrid>
              <a:tr h="31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Electricité (18 c€/kWh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Elektriciteit (18c€/kWu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Certificats ver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4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Groene Certificat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Rentrées annuell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4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Jaarlijks inkomst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57120" y="5275440"/>
          <a:ext cx="8715600" cy="1218960"/>
        </p:xfrm>
        <a:graphic>
          <a:graphicData uri="http://schemas.openxmlformats.org/drawingml/2006/table">
            <a:tbl>
              <a:tblPr/>
              <a:tblGrid>
                <a:gridCol w="3036960"/>
                <a:gridCol w="1012680"/>
                <a:gridCol w="890640"/>
                <a:gridCol w="873360"/>
                <a:gridCol w="2901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Temps de retou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8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Terugverdientij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Rentrées après 10 a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33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9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Netto aanwinst na 10 jar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Rentrées après 15 a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433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4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9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Netto aanwinst na 15 jar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789b"/>
                          </a:solidFill>
                          <a:latin typeface="Arial"/>
                          <a:ea typeface="Arial"/>
                        </a:rPr>
                        <a:t>Rentrées après 20 a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33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24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40 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9999"/>
                          </a:solidFill>
                          <a:latin typeface="Arial"/>
                          <a:ea typeface="Arial"/>
                        </a:rPr>
                        <a:t>Netto aanwinst na 20 jar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854640" y="142920"/>
            <a:ext cx="7230600" cy="1172520"/>
            <a:chOff x="854640" y="142920"/>
            <a:chExt cx="7230600" cy="1172520"/>
          </a:xfrm>
        </p:grpSpPr>
        <p:sp>
          <p:nvSpPr>
            <p:cNvPr id="261" name="Rectangle 3"/>
            <p:cNvSpPr/>
            <p:nvPr/>
          </p:nvSpPr>
          <p:spPr>
            <a:xfrm>
              <a:off x="854640" y="855720"/>
              <a:ext cx="260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Meer informatie…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789b"/>
                  </a:solidFill>
                  <a:latin typeface="Arial"/>
                </a:rPr>
                <a:t>Plus d’informations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39840" y="1379160"/>
            <a:ext cx="457344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www.aper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www.valbiom.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www.abea.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www.defi-energie.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www.ibgebim.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Renouvelle, Abonnez-vous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gion flamand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www.energiespare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http://www.ode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Région wallo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http://energie.wallonie.b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 rot="20884800">
            <a:off x="4984560" y="995040"/>
            <a:ext cx="2981160" cy="2165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 rot="879000">
            <a:off x="5861160" y="2195280"/>
            <a:ext cx="3024000" cy="2357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abea"/>
          <p:cNvPicPr/>
          <p:nvPr/>
        </p:nvPicPr>
        <p:blipFill>
          <a:blip r:embed="rId3"/>
          <a:stretch/>
        </p:blipFill>
        <p:spPr>
          <a:xfrm>
            <a:off x="5567400" y="382104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857160" y="142920"/>
            <a:ext cx="7228080" cy="1172520"/>
            <a:chOff x="857160" y="142920"/>
            <a:chExt cx="7228080" cy="1172520"/>
          </a:xfrm>
        </p:grpSpPr>
        <p:sp>
          <p:nvSpPr>
            <p:cNvPr id="268" name="Rectangle 3"/>
            <p:cNvSpPr/>
            <p:nvPr/>
          </p:nvSpPr>
          <p:spPr>
            <a:xfrm>
              <a:off x="857160" y="855720"/>
              <a:ext cx="375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Onze volgende activiteit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789b"/>
                  </a:solidFill>
                  <a:latin typeface="Arial"/>
                </a:rPr>
                <a:t>Nos prochaines activité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67920" y="1530000"/>
            <a:ext cx="877572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789b"/>
                </a:solidFill>
                <a:latin typeface="Arial"/>
              </a:rPr>
              <a:t>Soirée info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fr-BE" sz="3200" spc="-1" strike="noStrike">
                <a:solidFill>
                  <a:srgbClr val="009999"/>
                </a:solidFill>
                <a:latin typeface="Arial"/>
              </a:rPr>
              <a:t>Info av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89b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89b"/>
                </a:solidFill>
                <a:latin typeface="Arial"/>
              </a:rPr>
              <a:t>Le chauffe-eau solaire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8/04/2008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De zonnebo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789b"/>
                </a:solidFill>
                <a:latin typeface="Arial"/>
              </a:rPr>
              <a:t>Visites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fr-BE" sz="3200" spc="-1" strike="noStrike">
                <a:solidFill>
                  <a:srgbClr val="009999"/>
                </a:solidFill>
                <a:latin typeface="Arial"/>
              </a:rPr>
              <a:t>Be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89b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89b"/>
                </a:solidFill>
                <a:latin typeface="Arial"/>
              </a:rPr>
              <a:t>Le chauffe-eau solaire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3/04/2008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De zonnebo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789b"/>
                </a:solidFill>
                <a:latin typeface="Arial"/>
              </a:rPr>
              <a:t>Evènements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fr-BE" sz="3200" spc="-1" strike="noStrike">
                <a:solidFill>
                  <a:srgbClr val="009999"/>
                </a:solidFill>
                <a:latin typeface="Arial"/>
              </a:rPr>
              <a:t>Even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89b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89b"/>
                </a:solidFill>
                <a:latin typeface="Arial"/>
              </a:rPr>
              <a:t>Journée Maisons Vertes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6/03/2008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Groene Huizen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89b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89b"/>
                </a:solidFill>
                <a:latin typeface="Arial"/>
              </a:rPr>
              <a:t>Fête de l’environnement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1/06/2008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Grote Milieufe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world-hands"/>
          <p:cNvPicPr/>
          <p:nvPr/>
        </p:nvPicPr>
        <p:blipFill>
          <a:blip r:embed="rId1"/>
          <a:stretch/>
        </p:blipFill>
        <p:spPr>
          <a:xfrm>
            <a:off x="1150920" y="4680"/>
            <a:ext cx="6853320" cy="68533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7"/>
          <p:cNvSpPr/>
          <p:nvPr/>
        </p:nvSpPr>
        <p:spPr>
          <a:xfrm>
            <a:off x="2299680" y="198360"/>
            <a:ext cx="47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Merci de votre atten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68080" y="1820880"/>
            <a:ext cx="670716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78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89b"/>
                </a:solidFill>
                <a:latin typeface="Arial"/>
              </a:rPr>
              <a:t>Association indépendante</a:t>
            </a:r>
            <a:r>
              <a:rPr b="0" lang="fr-FR" sz="2000" spc="-1" strike="noStrike">
                <a:solidFill>
                  <a:srgbClr val="00789b"/>
                </a:solidFill>
                <a:latin typeface="Arial"/>
              </a:rPr>
              <a:t> a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78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89b"/>
                </a:solidFill>
                <a:latin typeface="Arial"/>
              </a:rPr>
              <a:t>depuis </a:t>
            </a:r>
            <a:r>
              <a:rPr b="1" lang="fr-FR" sz="2000" spc="-1" strike="noStrike">
                <a:solidFill>
                  <a:srgbClr val="00789b"/>
                </a:solidFill>
                <a:latin typeface="Arial"/>
              </a:rPr>
              <a:t>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78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89b"/>
                </a:solidFill>
                <a:latin typeface="Arial"/>
              </a:rPr>
              <a:t>membres  :</a:t>
            </a: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7800" indent="-52056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789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Centres de recher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7800" indent="-52056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789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les associations actives </a:t>
            </a:r>
            <a:r>
              <a:rPr b="0" lang="fr-FR" sz="1800" spc="-1" strike="noStrike">
                <a:solidFill>
                  <a:srgbClr val="00789b"/>
                </a:solidFill>
                <a:latin typeface="Arial"/>
              </a:rPr>
              <a:t>dans le secteur des Energies Renouvel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331920" y="1754280"/>
            <a:ext cx="0" cy="1552320"/>
          </a:xfrm>
          <a:prstGeom prst="line">
            <a:avLst/>
          </a:prstGeom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331920" y="4351320"/>
            <a:ext cx="0" cy="1552680"/>
          </a:xfrm>
          <a:prstGeom prst="line">
            <a:avLst/>
          </a:prstGeom>
          <a:ln w="633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568440" y="4395960"/>
            <a:ext cx="59227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Onafhankelijke Vereniging gesticht in 199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Leden  :</a:t>
            </a: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7800" indent="-52056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9999"/>
                </a:solidFill>
                <a:latin typeface="Arial"/>
              </a:rPr>
              <a:t>Onderzoekcent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7800" indent="-52056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Actieve verenigingen in de Hernieuwbare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Energieën s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18640" y="85572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9999"/>
                </a:solidFill>
                <a:latin typeface="Arial"/>
              </a:rPr>
              <a:t>1. APERe - 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Presentat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930240" y="142920"/>
            <a:ext cx="712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89b"/>
                </a:solidFill>
                <a:latin typeface="Arial"/>
              </a:rPr>
              <a:t>1. L’APERe - </a:t>
            </a:r>
            <a:r>
              <a:rPr b="1" lang="fr-FR" sz="3200" spc="-1" strike="noStrike">
                <a:solidFill>
                  <a:srgbClr val="00789b"/>
                </a:solidFill>
                <a:latin typeface="Arial"/>
              </a:rPr>
              <a:t>Prés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equipe-004"/>
          <p:cNvPicPr/>
          <p:nvPr/>
        </p:nvPicPr>
        <p:blipFill>
          <a:blip r:embed="rId1"/>
          <a:stretch/>
        </p:blipFill>
        <p:spPr>
          <a:xfrm rot="1316400">
            <a:off x="6931080" y="3274920"/>
            <a:ext cx="1614600" cy="2409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Logo_eed"/>
          <p:cNvPicPr/>
          <p:nvPr/>
        </p:nvPicPr>
        <p:blipFill>
          <a:blip r:embed="rId2"/>
          <a:stretch/>
        </p:blipFill>
        <p:spPr>
          <a:xfrm>
            <a:off x="6167520" y="1309680"/>
            <a:ext cx="29764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9"/>
          <p:cNvGrpSpPr/>
          <p:nvPr/>
        </p:nvGrpSpPr>
        <p:grpSpPr>
          <a:xfrm>
            <a:off x="852120" y="142920"/>
            <a:ext cx="7233120" cy="1172520"/>
            <a:chOff x="852120" y="142920"/>
            <a:chExt cx="7233120" cy="1172520"/>
          </a:xfrm>
        </p:grpSpPr>
        <p:sp>
          <p:nvSpPr>
            <p:cNvPr id="107" name="Rectangle 7"/>
            <p:cNvSpPr/>
            <p:nvPr/>
          </p:nvSpPr>
          <p:spPr>
            <a:xfrm>
              <a:off x="852120" y="855720"/>
              <a:ext cx="31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1. APERe – </a:t>
              </a:r>
              <a:r>
                <a:rPr b="0" lang="nl-NL" sz="2000" spc="-1" strike="noStrike">
                  <a:solidFill>
                    <a:srgbClr val="009999"/>
                  </a:solidFill>
                  <a:latin typeface="Arial"/>
                </a:rPr>
                <a:t>Onze lede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1. L’APERe – </a:t>
              </a:r>
              <a:r>
                <a:rPr b="1" lang="fr-FR" sz="3200" spc="-1" strike="noStrike">
                  <a:solidFill>
                    <a:srgbClr val="00789b"/>
                  </a:solidFill>
                  <a:latin typeface="Arial"/>
                </a:rPr>
                <a:t>Nos membre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374760" y="1486080"/>
            <a:ext cx="7016760" cy="3601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2"/>
          <a:stretch/>
        </p:blipFill>
        <p:spPr>
          <a:xfrm>
            <a:off x="433440" y="5189400"/>
            <a:ext cx="6815160" cy="804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669960" y="121932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Membres effectif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501840" y="492768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Membres associé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080" y="186480"/>
            <a:ext cx="76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68440" y="1820880"/>
            <a:ext cx="78073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indent="36180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Sensibilisation dans les éco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Études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et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actions de sout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Conseil</a:t>
            </a: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331920" y="1754280"/>
            <a:ext cx="0" cy="1741320"/>
          </a:xfrm>
          <a:prstGeom prst="line">
            <a:avLst/>
          </a:prstGeom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331920" y="3994200"/>
            <a:ext cx="0" cy="1552680"/>
          </a:xfrm>
          <a:prstGeom prst="line">
            <a:avLst/>
          </a:prstGeom>
          <a:ln w="633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568440" y="4029120"/>
            <a:ext cx="78073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indent="361800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Informat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Oplei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Jeugd sensibilisatie Studies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Ondersteuning ac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adv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7"/>
          <p:cNvGrpSpPr/>
          <p:nvPr/>
        </p:nvGrpSpPr>
        <p:grpSpPr>
          <a:xfrm>
            <a:off x="851400" y="142920"/>
            <a:ext cx="7233840" cy="1172520"/>
            <a:chOff x="851400" y="142920"/>
            <a:chExt cx="7233840" cy="1172520"/>
          </a:xfrm>
        </p:grpSpPr>
        <p:sp>
          <p:nvSpPr>
            <p:cNvPr id="119" name="Rectangle 18"/>
            <p:cNvSpPr/>
            <p:nvPr/>
          </p:nvSpPr>
          <p:spPr>
            <a:xfrm>
              <a:off x="851400" y="855720"/>
              <a:ext cx="37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1. APERe – </a:t>
              </a:r>
              <a:r>
                <a:rPr b="0" lang="nl-NL" sz="2000" spc="-1" strike="noStrike">
                  <a:solidFill>
                    <a:srgbClr val="009999"/>
                  </a:solidFill>
                  <a:latin typeface="Arial"/>
                </a:rPr>
                <a:t>Onze activiteite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9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1. L’APERe – </a:t>
              </a:r>
              <a:r>
                <a:rPr b="1" lang="fr-FR" sz="3200" spc="-1" strike="noStrike">
                  <a:solidFill>
                    <a:srgbClr val="00789b"/>
                  </a:solidFill>
                  <a:latin typeface="Arial"/>
                </a:rPr>
                <a:t>Nos activité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2" descr="stand"/>
          <p:cNvPicPr/>
          <p:nvPr/>
        </p:nvPicPr>
        <p:blipFill>
          <a:blip r:embed="rId1"/>
          <a:stretch/>
        </p:blipFill>
        <p:spPr>
          <a:xfrm rot="182400">
            <a:off x="5149800" y="3685680"/>
            <a:ext cx="2949480" cy="221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équipe"/>
          <p:cNvPicPr/>
          <p:nvPr/>
        </p:nvPicPr>
        <p:blipFill>
          <a:blip r:embed="rId2"/>
          <a:stretch/>
        </p:blipFill>
        <p:spPr>
          <a:xfrm rot="1036200">
            <a:off x="5763960" y="1752480"/>
            <a:ext cx="305748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5" descr="biblio"/>
          <p:cNvPicPr/>
          <p:nvPr/>
        </p:nvPicPr>
        <p:blipFill>
          <a:blip r:embed="rId1"/>
          <a:stretch/>
        </p:blipFill>
        <p:spPr>
          <a:xfrm rot="254400">
            <a:off x="6602040" y="2501640"/>
            <a:ext cx="2319480" cy="173988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4"/>
          <p:cNvGrpSpPr/>
          <p:nvPr/>
        </p:nvGrpSpPr>
        <p:grpSpPr>
          <a:xfrm>
            <a:off x="851400" y="142920"/>
            <a:ext cx="7233840" cy="1172520"/>
            <a:chOff x="851400" y="142920"/>
            <a:chExt cx="7233840" cy="1172520"/>
          </a:xfrm>
        </p:grpSpPr>
        <p:sp>
          <p:nvSpPr>
            <p:cNvPr id="125" name="Rectangle 5"/>
            <p:cNvSpPr/>
            <p:nvPr/>
          </p:nvSpPr>
          <p:spPr>
            <a:xfrm>
              <a:off x="851400" y="855720"/>
              <a:ext cx="336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1. APERe - </a:t>
              </a:r>
              <a:r>
                <a:rPr b="0" lang="nl-NL" sz="2000" spc="-1" strike="noStrike">
                  <a:solidFill>
                    <a:srgbClr val="009999"/>
                  </a:solidFill>
                  <a:latin typeface="Arial"/>
                </a:rPr>
                <a:t>communicati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1. L’APERe – </a:t>
              </a:r>
              <a:r>
                <a:rPr b="1" lang="fr-FR" sz="3200" spc="-1" strike="noStrike">
                  <a:solidFill>
                    <a:srgbClr val="00789b"/>
                  </a:solidFill>
                  <a:latin typeface="Arial"/>
                </a:rPr>
                <a:t>communication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10"/>
          <p:cNvSpPr/>
          <p:nvPr/>
        </p:nvSpPr>
        <p:spPr>
          <a:xfrm>
            <a:off x="568440" y="1523880"/>
            <a:ext cx="7807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 indent="31104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Site Web : 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www.apere.o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Un Forum : 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sur le 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magazine mensuel :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Renouv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Newsletter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2000" spc="-1" strike="noStrike">
                <a:solidFill>
                  <a:srgbClr val="00789b"/>
                </a:solidFill>
                <a:latin typeface="Arial"/>
              </a:rPr>
              <a:t>@PERe inf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Un centre de documentation « Energie 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789b"/>
                </a:solidFill>
                <a:latin typeface="Arial"/>
              </a:rPr>
              <a:t>Actions de terr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78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331920" y="1542960"/>
            <a:ext cx="0" cy="2068560"/>
          </a:xfrm>
          <a:prstGeom prst="line">
            <a:avLst/>
          </a:prstGeom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331920" y="4114800"/>
            <a:ext cx="0" cy="2016000"/>
          </a:xfrm>
          <a:prstGeom prst="line">
            <a:avLst/>
          </a:prstGeom>
          <a:ln w="633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568440" y="4092480"/>
            <a:ext cx="7807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 indent="31104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Website : 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www.apere.o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Een Forum :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op de web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Maandelijks tijdschrift: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Renouv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Newsletter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@PERe inf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Documentatie centrum « Energie 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1104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Terrein ac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7" descr="site_web"/>
          <p:cNvPicPr/>
          <p:nvPr/>
        </p:nvPicPr>
        <p:blipFill>
          <a:blip r:embed="rId2"/>
          <a:stretch/>
        </p:blipFill>
        <p:spPr>
          <a:xfrm rot="463200">
            <a:off x="6536880" y="1207800"/>
            <a:ext cx="2249640" cy="1414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forum"/>
          <p:cNvPicPr/>
          <p:nvPr/>
        </p:nvPicPr>
        <p:blipFill>
          <a:blip r:embed="rId3"/>
          <a:stretch/>
        </p:blipFill>
        <p:spPr>
          <a:xfrm rot="20500200">
            <a:off x="6934320" y="4509720"/>
            <a:ext cx="1847880" cy="1523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cover01"/>
          <p:cNvPicPr/>
          <p:nvPr/>
        </p:nvPicPr>
        <p:blipFill>
          <a:blip r:embed="rId4"/>
          <a:stretch/>
        </p:blipFill>
        <p:spPr>
          <a:xfrm rot="1498200">
            <a:off x="6534000" y="3059280"/>
            <a:ext cx="12114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63"/>
          <p:cNvGraphicFramePr/>
          <p:nvPr/>
        </p:nvGraphicFramePr>
        <p:xfrm>
          <a:off x="1312920" y="2112840"/>
          <a:ext cx="6646680" cy="447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2920" y="2112840"/>
                    <a:ext cx="6646680" cy="44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513000" y="142920"/>
            <a:ext cx="7572240" cy="1157760"/>
            <a:chOff x="513000" y="142920"/>
            <a:chExt cx="7572240" cy="1157760"/>
          </a:xfrm>
        </p:grpSpPr>
        <p:sp>
          <p:nvSpPr>
            <p:cNvPr id="138" name="Rectangle 5"/>
            <p:cNvSpPr/>
            <p:nvPr/>
          </p:nvSpPr>
          <p:spPr>
            <a:xfrm>
              <a:off x="513000" y="914400"/>
              <a:ext cx="4152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9999"/>
                  </a:solidFill>
                  <a:latin typeface="Arial"/>
                </a:rPr>
                <a:t>2. Onze Energieverbruik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400" spc="-1" strike="noStrike">
                  <a:solidFill>
                    <a:srgbClr val="00789b"/>
                  </a:solidFill>
                  <a:latin typeface="Arial"/>
                </a:rPr>
                <a:t>2. Notre consommation d’énergie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58"/>
          <p:cNvSpPr/>
          <p:nvPr/>
        </p:nvSpPr>
        <p:spPr>
          <a:xfrm>
            <a:off x="6329520" y="3205080"/>
            <a:ext cx="2814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otal = 22618 kWh/a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9"/>
          <p:cNvSpPr/>
          <p:nvPr/>
        </p:nvSpPr>
        <p:spPr>
          <a:xfrm>
            <a:off x="176040" y="1424160"/>
            <a:ext cx="896796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89b"/>
                </a:solidFill>
                <a:latin typeface="Arial"/>
              </a:rPr>
              <a:t>Consommation énergétique moyenne d’un ménage bruxellois en 2004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Arial"/>
              </a:rPr>
              <a:t>(hors transpor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9999"/>
                </a:solidFill>
                <a:latin typeface="Arial"/>
              </a:rPr>
              <a:t>Gemiddeld energetischverbruik van een Brusselse gezin in 200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(zonder het vervo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4"/>
          <p:cNvSpPr/>
          <p:nvPr/>
        </p:nvSpPr>
        <p:spPr>
          <a:xfrm>
            <a:off x="360" y="5659560"/>
            <a:ext cx="308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Source : état de l'environnement bruxellois 20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2"/>
          <p:cNvSpPr/>
          <p:nvPr/>
        </p:nvSpPr>
        <p:spPr>
          <a:xfrm>
            <a:off x="836640" y="3827520"/>
            <a:ext cx="8150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9999"/>
                </a:solidFill>
                <a:latin typeface="Arial"/>
              </a:rPr>
              <a:t>Oplossingen om ons energieverbruik te verminderen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lnSpc>
                <a:spcPct val="100000"/>
              </a:lnSpc>
              <a:buClr>
                <a:srgbClr val="009999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De vraag in energie van het gebouw verlage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343080">
              <a:lnSpc>
                <a:spcPct val="100000"/>
              </a:lnSpc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een goede isolat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513000" y="142920"/>
            <a:ext cx="7572240" cy="1157760"/>
            <a:chOff x="513000" y="142920"/>
            <a:chExt cx="7572240" cy="1157760"/>
          </a:xfrm>
        </p:grpSpPr>
        <p:sp>
          <p:nvSpPr>
            <p:cNvPr id="146" name="Rectangle 4"/>
            <p:cNvSpPr/>
            <p:nvPr/>
          </p:nvSpPr>
          <p:spPr>
            <a:xfrm>
              <a:off x="513000" y="914400"/>
              <a:ext cx="4152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99cc00"/>
                  </a:solidFill>
                  <a:latin typeface="Arial"/>
                </a:rPr>
                <a:t>2. Onze Energieverbruik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5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400" spc="-1" strike="noStrike">
                  <a:solidFill>
                    <a:srgbClr val="00789b"/>
                  </a:solidFill>
                  <a:latin typeface="Arial"/>
                </a:rPr>
                <a:t>2. Notre consommation d’énergie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9"/>
          <p:cNvSpPr/>
          <p:nvPr/>
        </p:nvSpPr>
        <p:spPr>
          <a:xfrm>
            <a:off x="331920" y="1542960"/>
            <a:ext cx="0" cy="2062080"/>
          </a:xfrm>
          <a:prstGeom prst="line">
            <a:avLst/>
          </a:prstGeom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331920" y="3916440"/>
            <a:ext cx="0" cy="1914480"/>
          </a:xfrm>
          <a:prstGeom prst="line">
            <a:avLst/>
          </a:prstGeom>
          <a:ln w="63360">
            <a:solidFill>
              <a:srgbClr val="0078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712800" y="1479600"/>
            <a:ext cx="8431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89b"/>
                </a:solidFill>
                <a:latin typeface="Arial"/>
              </a:rPr>
              <a:t>Solutions pour diminuer notre consommation d’éner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Minimiser la demande en énergie du bâti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43080">
              <a:lnSpc>
                <a:spcPct val="100000"/>
              </a:lnSpc>
              <a:buClr>
                <a:srgbClr val="0078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789b"/>
                </a:solidFill>
                <a:latin typeface="Arial"/>
              </a:rPr>
              <a:t>Bonne isol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2160">
              <a:buClr>
                <a:srgbClr val="00789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5080" y="156240"/>
            <a:ext cx="7643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isolatiediktesindakeninEuropa1"/>
          <p:cNvPicPr/>
          <p:nvPr/>
        </p:nvPicPr>
        <p:blipFill>
          <a:blip r:embed="rId1"/>
          <a:stretch/>
        </p:blipFill>
        <p:spPr>
          <a:xfrm>
            <a:off x="262080" y="2006640"/>
            <a:ext cx="3835080" cy="3200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energieverliesbinneneuropa1"/>
          <p:cNvPicPr/>
          <p:nvPr/>
        </p:nvPicPr>
        <p:blipFill>
          <a:blip r:embed="rId2"/>
          <a:stretch/>
        </p:blipFill>
        <p:spPr>
          <a:xfrm>
            <a:off x="4794120" y="2011320"/>
            <a:ext cx="3829320" cy="31989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9"/>
          <p:cNvSpPr/>
          <p:nvPr/>
        </p:nvSpPr>
        <p:spPr>
          <a:xfrm>
            <a:off x="6753240" y="5653080"/>
            <a:ext cx="24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ource : www.recticelinsulation.co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76040" y="1442880"/>
            <a:ext cx="8967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Epaisseur d’isolation des murs</a:t>
            </a: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Pertes d’énergie par les murs en Europe (2001)</a:t>
            </a: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789b"/>
                </a:solidFill>
                <a:latin typeface="Arial"/>
              </a:rPr>
              <a:t>en Europe (200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76040" y="5288040"/>
            <a:ext cx="8967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99cc00"/>
                </a:solidFill>
                <a:latin typeface="Arial"/>
              </a:rPr>
              <a:t>Isolatiediktes in muren in Europa </a:t>
            </a:r>
            <a:r>
              <a:rPr b="1" lang="nl-NL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99cc00"/>
                </a:solidFill>
                <a:latin typeface="Arial"/>
              </a:rPr>
              <a:t>Energieverliezen langs de muren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99cc00"/>
                </a:solidFill>
                <a:latin typeface="Arial"/>
              </a:rPr>
              <a:t>(2001)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99cc00"/>
                </a:solidFill>
                <a:latin typeface="Arial"/>
              </a:rPr>
              <a:t>Europa (200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3"/>
          <p:cNvGrpSpPr/>
          <p:nvPr/>
        </p:nvGrpSpPr>
        <p:grpSpPr>
          <a:xfrm>
            <a:off x="513000" y="142920"/>
            <a:ext cx="7572240" cy="1157760"/>
            <a:chOff x="513000" y="142920"/>
            <a:chExt cx="7572240" cy="1157760"/>
          </a:xfrm>
        </p:grpSpPr>
        <p:sp>
          <p:nvSpPr>
            <p:cNvPr id="158" name="Rectangle 14"/>
            <p:cNvSpPr/>
            <p:nvPr/>
          </p:nvSpPr>
          <p:spPr>
            <a:xfrm>
              <a:off x="513000" y="914400"/>
              <a:ext cx="4152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99cc00"/>
                  </a:solidFill>
                  <a:latin typeface="Arial"/>
                </a:rPr>
                <a:t>2. Onze Energieverbruik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963720" y="142920"/>
              <a:ext cx="7121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400" spc="-1" strike="noStrike">
                  <a:solidFill>
                    <a:srgbClr val="00789b"/>
                  </a:solidFill>
                  <a:latin typeface="Arial"/>
                </a:rPr>
                <a:t>2. Notre consommation d’énergie</a:t>
              </a:r>
              <a:r>
                <a:rPr b="1" lang="fr-FR" sz="4000" spc="-1" strike="noStrike">
                  <a:solidFill>
                    <a:srgbClr val="00789b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9:40:38Z</dcterms:created>
  <dc:creator>Gregory Neubourg</dc:creator>
  <dc:description>gneubourg@apere.org
02/209.04.04</dc:description>
  <dc:language>en-US</dc:language>
  <cp:lastModifiedBy>Bénédicte Mercenier</cp:lastModifiedBy>
  <dcterms:modified xsi:type="dcterms:W3CDTF">2014-09-26T06:39:53Z</dcterms:modified>
  <cp:revision>59</cp:revision>
  <dc:subject/>
  <dc:title>Présentation Energie Renouvelables à Bruxelles</dc:title>
</cp:coreProperties>
</file>