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4DC5-5BEF-4D09-A11A-8E79D0AF1F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813-385C-47D6-B4FC-AFE8AC41F9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308-4BD3-424D-8EEB-A244B45AC3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66699"/>
                </a:solidFill>
                <a:latin typeface="Verdana"/>
              </a:rPr>
              <a:t>Informatie/sensibiliseringsorganen en Verenig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EC63-0B7C-4BA8-AE33-A297C3F7B8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430-146B-4AB0-A0A2-5607D54014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977D-CBD3-4A7D-9AC6-1879826F90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2B47-D0E1-4B33-99FD-75CD33D53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333399"/>
                </a:solidFill>
                <a:latin typeface="Verdana"/>
                <a:ea typeface="Times New Roman"/>
              </a:rPr>
              <a:t>«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 C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oncentration géographique d´entreprises et d´institutions interconnectées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Arial"/>
              </a:rPr>
              <a:t>*</a:t>
            </a: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Concentrées sur le même terri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ctives dans un secteur spécif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S’appuyant sur des compétences similai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yant recours à des technologies com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Fonctionnant en partenariat dans un environnement concurrent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enariat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ement volontaire entre les entreprises de relations de complémentarités, verticales ou horizontal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au sein d’un même corps de métier ou entre professions)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rchandes ou non marchand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ion d’une vision commune d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A46-A74C-49BD-A582-9EFA282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208-7E3F-4DEA-8894-C990F65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CE0-0E11-4C48-AD1F-0A132419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44F-2D01-415E-8020-805921A7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AAC-A542-460C-8BF4-577A10F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625-9AE6-41F8-9D9D-863CECC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289-1147-4618-A9FC-212D9888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7F3-8DCF-4D2F-A881-D412CFA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56D-2944-49C0-8ACE-2342388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16F-FBE3-4CA1-95B1-446A626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6F0-6B7E-4444-89C2-7AB12E7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0E9-C6E8-45CB-B1ED-BF2EA38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792-CB6F-4877-B3A6-A42F6DAE23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52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Verdana"/>
              </a:rPr>
              <a:t>Le réseau des acteurs bruxellois de l’éco-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Organismes de sout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Fédérations profesion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Centres de Recherche, Universités, Hautes Ec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rchitectes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Bureaux d’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Bureaux d’études et consul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Entrepreneurs (Gros œuvre et Parachè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co-matériaux et éco-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Vente et installation d’équipements 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rganismes de sou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Fédér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Centres de Recherche, Universités, Hautes E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Verdana"/>
              </a:rPr>
              <a:t>Organismes de sout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Bruxelles Environnement – IB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Plate-Forme Maison Passive a.s.b.l.</a:t>
            </a: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MP_logo_large (2)"/>
          <p:cNvPicPr/>
          <p:nvPr/>
        </p:nvPicPr>
        <p:blipFill>
          <a:blip r:embed="rId3"/>
          <a:stretch/>
        </p:blipFill>
        <p:spPr>
          <a:xfrm>
            <a:off x="6516720" y="4869000"/>
            <a:ext cx="1224000" cy="114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BGE"/>
          <p:cNvPicPr/>
          <p:nvPr/>
        </p:nvPicPr>
        <p:blipFill>
          <a:blip r:embed="rId4"/>
          <a:stretch/>
        </p:blipFill>
        <p:spPr>
          <a:xfrm>
            <a:off x="3995640" y="3354480"/>
            <a:ext cx="45817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99"/>
                </a:solidFill>
                <a:latin typeface="Verdana"/>
              </a:rPr>
              <a:t>Fédérations profes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Verdana"/>
              </a:rPr>
              <a:t>Confédération Construction Bruxelles-Capitale (CCB-C)</a:t>
            </a: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CB-C"/>
          <p:cNvPicPr/>
          <p:nvPr/>
        </p:nvPicPr>
        <p:blipFill>
          <a:blip r:embed="rId3"/>
          <a:stretch/>
        </p:blipFill>
        <p:spPr>
          <a:xfrm>
            <a:off x="6516720" y="3860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Centres de Recherche, Universités, Hautes E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Centre Scientifique et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de la Construction (CS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InduTec a.s.b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LOGO CSTC - WTCB copie"/>
          <p:cNvPicPr/>
          <p:nvPr/>
        </p:nvPicPr>
        <p:blipFill>
          <a:blip r:embed="rId3"/>
          <a:stretch/>
        </p:blipFill>
        <p:spPr>
          <a:xfrm>
            <a:off x="6443640" y="3243240"/>
            <a:ext cx="1654200" cy="118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LogoINDUTEC"/>
          <p:cNvPicPr/>
          <p:nvPr/>
        </p:nvPicPr>
        <p:blipFill>
          <a:blip r:embed="rId4"/>
          <a:stretch/>
        </p:blipFill>
        <p:spPr>
          <a:xfrm>
            <a:off x="6443640" y="4941720"/>
            <a:ext cx="1714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8964720" cy="4364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Arial"/>
              </a:rPr>
              <a:t>Pour la Région</a:t>
            </a:r>
            <a:r>
              <a:rPr b="0" lang="fr-BE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Loca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Présentation d’une image de marque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Favorisation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du 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développement et 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de l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a pérennité des entre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Création d’emp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Arial"/>
              </a:rPr>
              <a:t>Pour la Ré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Internationa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Renforcement de sa visibilité transrégionale et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romotion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d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l’ex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Intérêt accru pour les investisseurs étra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148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e Bien-être et la Santé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conomie et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Pour l’Environnement et le Bien-être et la Santé des habitants : énergie, air intérieur, eau, déch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E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gestion de l’eau (utilisation rationnelle, réutilisation de l’eau de pluie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Matériaux et produits de construction sains, </a:t>
            </a:r>
            <a:r>
              <a:rPr b="0" lang="fr-FR" sz="1800" spc="-1" strike="noStrike">
                <a:solidFill>
                  <a:srgbClr val="666699"/>
                </a:solidFill>
                <a:latin typeface="Verdana"/>
              </a:rPr>
              <a:t>peu énergivores, recyclables, de provenance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conomie et l’Emploi à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Bruxel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370 nouvelles constructions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1080 rénovations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Secteur de la Construction : 3% de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-&gt; potentiels intéressants pour l’éco-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ABEBAO_txt_1ligne"/>
          <p:cNvPicPr/>
          <p:nvPr/>
        </p:nvPicPr>
        <p:blipFill>
          <a:blip r:embed="rId2"/>
          <a:stretch/>
        </p:blipFill>
        <p:spPr>
          <a:xfrm>
            <a:off x="1835280" y="2060640"/>
            <a:ext cx="4968720" cy="13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Le coordinateur du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49720" y="407268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Approche économique et de soutien publi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Les partenaires du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Bruxelles Environnement – IB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Centre Scientifique et Technique de la Construction (CS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Confédération Construction Bruxelles-Capitale (CCB-C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fr-FR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BGE"/>
          <p:cNvPicPr/>
          <p:nvPr/>
        </p:nvPicPr>
        <p:blipFill>
          <a:blip r:embed="rId3"/>
          <a:stretch/>
        </p:blipFill>
        <p:spPr>
          <a:xfrm>
            <a:off x="5365800" y="1773360"/>
            <a:ext cx="27352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LOGO CSTC - WTCB copie"/>
          <p:cNvPicPr/>
          <p:nvPr/>
        </p:nvPicPr>
        <p:blipFill>
          <a:blip r:embed="rId4"/>
          <a:stretch/>
        </p:blipFill>
        <p:spPr>
          <a:xfrm>
            <a:off x="5651640" y="3078000"/>
            <a:ext cx="129528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CB-C"/>
          <p:cNvPicPr/>
          <p:nvPr/>
        </p:nvPicPr>
        <p:blipFill>
          <a:blip r:embed="rId5"/>
          <a:stretch/>
        </p:blipFill>
        <p:spPr>
          <a:xfrm>
            <a:off x="5867280" y="486900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« Co</a:t>
            </a:r>
            <a:r>
              <a:rPr b="0" lang="fr-FR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ncentration géographique d´entreprises et d´institutions interconnectées</a:t>
            </a:r>
            <a:r>
              <a:rPr b="0" lang="fr-BE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Verdana"/>
              </a:rPr>
              <a:t>Un outil de développement et de promotion d’un secteur et de sa compétitiv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0:04:49Z</dcterms:created>
  <dc:creator>pad</dc:creator>
  <dc:description/>
  <dc:language>en-US</dc:language>
  <cp:lastModifiedBy>Bénédicte Mercenier</cp:lastModifiedBy>
  <dcterms:modified xsi:type="dcterms:W3CDTF">2014-09-26T06:59:30Z</dcterms:modified>
  <cp:revision>4</cp:revision>
  <dc:subject/>
  <dc:title>Slide 1</dc:title>
</cp:coreProperties>
</file>