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B2F3-37ED-41EC-A967-2719369CF6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F1CC-0A67-4364-9E39-F2DC934C88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666699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F800-E8BA-4983-AB64-6B26773C83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666699"/>
                </a:solidFill>
                <a:latin typeface="Verdana"/>
              </a:rPr>
              <a:t>Informatie/sensibiliseringsorganen en Verenigi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B0CF-1F1C-4024-ADC0-0A719C5B9B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333399"/>
              </a:solidFill>
              <a:latin typeface="Verdana"/>
              <a:ea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754C-E6E0-4717-93FB-37EB2C114E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333399"/>
              </a:solidFill>
              <a:latin typeface="Verdana"/>
              <a:ea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CDF8-E59A-473D-B496-ECC5F88DD8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333399"/>
              </a:solidFill>
              <a:latin typeface="Verdana"/>
              <a:ea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0557-C470-4693-98EB-6B4BD8221F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333399"/>
                </a:solidFill>
                <a:latin typeface="Verdana"/>
                <a:ea typeface="Times New Roman"/>
              </a:rPr>
              <a:t>«</a:t>
            </a:r>
            <a:r>
              <a:rPr b="0" lang="fr-BE" sz="1200" spc="-1" strike="noStrike">
                <a:solidFill>
                  <a:srgbClr val="333399"/>
                </a:solidFill>
                <a:latin typeface="Verdana"/>
                <a:ea typeface="Times New Roman"/>
              </a:rPr>
              <a:t> C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Times New Roman"/>
              </a:rPr>
              <a:t>oncentration géographique d´entreprises et d´institutions interconnectées</a:t>
            </a:r>
            <a:r>
              <a:rPr b="0" lang="fr-BE" sz="1200" spc="-1" strike="noStrike">
                <a:solidFill>
                  <a:srgbClr val="333399"/>
                </a:solidFill>
                <a:latin typeface="Verdana"/>
                <a:ea typeface="Times New Roman"/>
              </a:rPr>
              <a:t>,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Times New Roman"/>
              </a:rPr>
              <a:t> dans un secteur particulier » (Porter, 199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666699"/>
                </a:solidFill>
                <a:latin typeface="Arial"/>
              </a:rPr>
              <a:t>*</a:t>
            </a:r>
            <a:r>
              <a:rPr b="0" lang="fr-BE" sz="1200" spc="-1" strike="noStrike">
                <a:solidFill>
                  <a:srgbClr val="666699"/>
                </a:solidFill>
                <a:latin typeface="Verdana"/>
              </a:rPr>
              <a:t>Concentrées sur le même territo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666699"/>
                </a:solidFill>
                <a:latin typeface="Verdana"/>
              </a:rPr>
              <a:t>*Actives dans un secteur spécif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666699"/>
                </a:solidFill>
                <a:latin typeface="Verdana"/>
              </a:rPr>
              <a:t>*S’appuyant sur des compétences similai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666699"/>
                </a:solidFill>
                <a:latin typeface="Verdana"/>
              </a:rPr>
              <a:t>*Ayant recours à des technologies comm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666699"/>
                </a:solidFill>
                <a:latin typeface="Verdana"/>
              </a:rPr>
              <a:t>*Fonctionnant en partenariat dans un environnement concurrenti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Partenariat</a:t>
            </a:r>
            <a:r>
              <a:rPr b="0" lang="fr-BE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: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développement volontaire entre les entreprises de relations de complémentarités, verticales ou horizontales</a:t>
            </a:r>
            <a:r>
              <a:rPr b="0" lang="fr-BE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(au sein d’un même corps de métier ou entre professions)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, marchandes ou non marchandes</a:t>
            </a:r>
            <a:r>
              <a:rPr b="0" lang="fr-BE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promotion d’une vision commune de développ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494-3745-484C-9375-414E25F3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2E6-E5C0-45BA-9D19-A0BD3F04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BBF0-1199-40CB-B669-E557D040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8C1-49B5-438B-95CF-8EDB3876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2556-3A26-4D2A-A615-22FB662F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2228-8985-419D-BB77-619E5E10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92F-9F09-4B18-91E8-1C8527BC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ABF6-8A08-43C8-B84B-B01FA698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0DA-5D7E-4E7F-BEB9-A0F99751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2A5D-D81B-4828-A458-3974E721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A1C-19C5-4E65-848A-7AC4A568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1740-3669-4819-94E5-C0561770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4DF9-10A8-49BC-B2BA-4E94113D880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cobuild"/>
          <p:cNvPicPr/>
          <p:nvPr/>
        </p:nvPicPr>
        <p:blipFill>
          <a:blip r:embed="rId1"/>
          <a:stretch/>
        </p:blipFill>
        <p:spPr>
          <a:xfrm>
            <a:off x="250920" y="5292720"/>
            <a:ext cx="1441440" cy="132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ABEBAO_txt_1ligne"/>
          <p:cNvPicPr/>
          <p:nvPr/>
        </p:nvPicPr>
        <p:blipFill>
          <a:blip r:embed="rId2"/>
          <a:stretch/>
        </p:blipFill>
        <p:spPr>
          <a:xfrm>
            <a:off x="3095640" y="5661000"/>
            <a:ext cx="3205080" cy="85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logo RBCBHG"/>
          <p:cNvPicPr/>
          <p:nvPr/>
        </p:nvPicPr>
        <p:blipFill>
          <a:blip r:embed="rId3"/>
          <a:stretch/>
        </p:blipFill>
        <p:spPr>
          <a:xfrm>
            <a:off x="7885080" y="5734080"/>
            <a:ext cx="841320" cy="852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5"/>
          <p:cNvGrpSpPr/>
          <p:nvPr/>
        </p:nvGrpSpPr>
        <p:grpSpPr>
          <a:xfrm>
            <a:off x="179280" y="757080"/>
            <a:ext cx="8622000" cy="4394520"/>
            <a:chOff x="179280" y="757080"/>
            <a:chExt cx="8622000" cy="4394520"/>
          </a:xfrm>
        </p:grpSpPr>
        <p:pic>
          <p:nvPicPr>
            <p:cNvPr id="52" name="Picture 6" descr=""/>
            <p:cNvPicPr/>
            <p:nvPr/>
          </p:nvPicPr>
          <p:blipFill>
            <a:blip r:embed="rId4"/>
            <a:stretch/>
          </p:blipFill>
          <p:spPr>
            <a:xfrm>
              <a:off x="179280" y="757080"/>
              <a:ext cx="8622000" cy="439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7" descr=""/>
            <p:cNvPicPr/>
            <p:nvPr/>
          </p:nvPicPr>
          <p:blipFill>
            <a:blip r:embed="rId5"/>
            <a:stretch/>
          </p:blipFill>
          <p:spPr>
            <a:xfrm>
              <a:off x="3492360" y="3301920"/>
              <a:ext cx="388800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Le Cluster Ecobuild,</a:t>
            </a:r>
            <a:br>
              <a:rPr sz="3200"/>
            </a:b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qu’est-ce que c’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Verdana"/>
              </a:rPr>
              <a:t>Le réseau des acteurs bruxellois de l’éco-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Entrep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6699"/>
                </a:solidFill>
                <a:latin typeface="Verdana"/>
              </a:rPr>
              <a:t>Organismes de sout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6699"/>
                </a:solidFill>
                <a:latin typeface="Verdana"/>
              </a:rPr>
              <a:t>Fédérations profesionn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6699"/>
                </a:solidFill>
                <a:latin typeface="Verdana"/>
              </a:rPr>
              <a:t>Centres de Recherche, Universités, Hautes Ec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Le Cluster Ecobuild,</a:t>
            </a:r>
            <a:br>
              <a:rPr sz="3200"/>
            </a:b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qu’est-ce que c’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99"/>
                </a:solidFill>
                <a:latin typeface="Verdana"/>
              </a:rPr>
              <a:t>Entre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Architectes</a:t>
            </a: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Bureaux d’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Bureaux d’études et consul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Verdana"/>
              </a:rPr>
              <a:t>Entrepreneurs (Gros œuvre et Parachèv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Eco-matériaux et éco-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Vente et installation d’équipements environnement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Le Cluster Ecobuild,</a:t>
            </a:r>
            <a:br>
              <a:rPr sz="3200"/>
            </a:b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qu’est-ce que c’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57200" y="1698480"/>
            <a:ext cx="8229600" cy="432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ecobuild"/>
          <p:cNvPicPr/>
          <p:nvPr/>
        </p:nvPicPr>
        <p:blipFill>
          <a:blip r:embed="rId3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Le Cluster Ecobuild,</a:t>
            </a:r>
            <a:br>
              <a:rPr sz="3200"/>
            </a:b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qu’est-ce que c’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Organismes de sou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Fédér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Centres de Recherche, Universités, Hautes Ec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Le Cluster Ecobuild,</a:t>
            </a:r>
            <a:br>
              <a:rPr sz="3200"/>
            </a:b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qu’est-ce que c’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3399"/>
                </a:solidFill>
                <a:latin typeface="Verdana"/>
              </a:rPr>
              <a:t>Organismes de sout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Verdana"/>
              </a:rPr>
              <a:t>Bruxelles Environnement – IB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Plate-Forme Maison Passive a.s.b.l.</a:t>
            </a:r>
            <a:r>
              <a:rPr b="0" lang="fr-BE" sz="2800" spc="-1" strike="noStrike">
                <a:solidFill>
                  <a:srgbClr val="66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PMP_logo_large (2)"/>
          <p:cNvPicPr/>
          <p:nvPr/>
        </p:nvPicPr>
        <p:blipFill>
          <a:blip r:embed="rId3"/>
          <a:stretch/>
        </p:blipFill>
        <p:spPr>
          <a:xfrm>
            <a:off x="6516720" y="4869000"/>
            <a:ext cx="1224000" cy="1149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IBGE"/>
          <p:cNvPicPr/>
          <p:nvPr/>
        </p:nvPicPr>
        <p:blipFill>
          <a:blip r:embed="rId4"/>
          <a:stretch/>
        </p:blipFill>
        <p:spPr>
          <a:xfrm>
            <a:off x="3995640" y="3354480"/>
            <a:ext cx="458172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Le Cluster Ecobuild,</a:t>
            </a:r>
            <a:br>
              <a:rPr sz="3200"/>
            </a:b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qu’est-ce que c’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99"/>
                </a:solidFill>
                <a:latin typeface="Verdana"/>
              </a:rPr>
              <a:t>Fédérations profesi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Verdana"/>
              </a:rPr>
              <a:t>Confédération Construction Bruxelles-Capitale (CCB-C)</a:t>
            </a:r>
            <a:r>
              <a:rPr b="0" lang="fr-FR" sz="2800" spc="-1" strike="noStrike">
                <a:solidFill>
                  <a:srgbClr val="66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CCB-C"/>
          <p:cNvPicPr/>
          <p:nvPr/>
        </p:nvPicPr>
        <p:blipFill>
          <a:blip r:embed="rId3"/>
          <a:stretch/>
        </p:blipFill>
        <p:spPr>
          <a:xfrm>
            <a:off x="6516720" y="3860640"/>
            <a:ext cx="1368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Le Cluster Ecobuild,</a:t>
            </a:r>
            <a:br>
              <a:rPr sz="3200"/>
            </a:b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qu’est-ce que c’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Centres de Recherche, Universités, Hautes Ec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Verdana"/>
              </a:rPr>
              <a:t>Centre Scientifique et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666699"/>
                </a:solidFill>
                <a:latin typeface="Verdana"/>
              </a:rPr>
              <a:t>de la Construction (CS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InduTec a.s.b.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LOGO CSTC - WTCB copie"/>
          <p:cNvPicPr/>
          <p:nvPr/>
        </p:nvPicPr>
        <p:blipFill>
          <a:blip r:embed="rId3"/>
          <a:stretch/>
        </p:blipFill>
        <p:spPr>
          <a:xfrm>
            <a:off x="6443640" y="3243240"/>
            <a:ext cx="1654200" cy="118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LogoINDUTEC"/>
          <p:cNvPicPr/>
          <p:nvPr/>
        </p:nvPicPr>
        <p:blipFill>
          <a:blip r:embed="rId4"/>
          <a:stretch/>
        </p:blipFill>
        <p:spPr>
          <a:xfrm>
            <a:off x="6443640" y="4941720"/>
            <a:ext cx="1714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99"/>
                </a:solidFill>
                <a:latin typeface="Verdana"/>
              </a:rPr>
              <a:t>Pourquoi l’éco-construc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6699"/>
                </a:solidFill>
                <a:latin typeface="Verdana"/>
              </a:rPr>
              <a:t>Le Cluster Ecobuild, qu’est-ce que c’es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66699"/>
                </a:solidFill>
                <a:latin typeface="Verdana"/>
              </a:rPr>
              <a:t>Le Cluster Ecobuild, quels avantag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629080" cy="885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ecobuild"/>
          <p:cNvPicPr/>
          <p:nvPr/>
        </p:nvPicPr>
        <p:blipFill>
          <a:blip r:embed="rId3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3"/>
          <a:stretch/>
        </p:blipFill>
        <p:spPr>
          <a:xfrm>
            <a:off x="108000" y="1341360"/>
            <a:ext cx="8964720" cy="4364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Le Cluster Ecobuild,</a:t>
            </a:r>
            <a:br>
              <a:rPr sz="3200"/>
            </a:b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quels avantag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Le Cluster Ecobuild,</a:t>
            </a:r>
            <a:br>
              <a:rPr sz="3200"/>
            </a:b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quels avantag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99"/>
                </a:solidFill>
                <a:latin typeface="Arial"/>
              </a:rPr>
              <a:t>Pour la Région</a:t>
            </a:r>
            <a:r>
              <a:rPr b="0" lang="fr-BE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BE" sz="2800" spc="-1" strike="noStrike">
                <a:solidFill>
                  <a:srgbClr val="333399"/>
                </a:solidFill>
                <a:latin typeface="Arial"/>
              </a:rPr>
              <a:t>Local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Arial"/>
              </a:rPr>
              <a:t>Présentation d’une image de marque dynam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Favorisation</a:t>
            </a:r>
            <a:r>
              <a:rPr b="0" lang="fr-BE" sz="2400" spc="-1" strike="noStrike">
                <a:solidFill>
                  <a:srgbClr val="666699"/>
                </a:solidFill>
                <a:latin typeface="Arial"/>
              </a:rPr>
              <a:t> du </a:t>
            </a: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développement et </a:t>
            </a:r>
            <a:r>
              <a:rPr b="0" lang="fr-BE" sz="2400" spc="-1" strike="noStrike">
                <a:solidFill>
                  <a:srgbClr val="666699"/>
                </a:solidFill>
                <a:latin typeface="Arial"/>
              </a:rPr>
              <a:t>de l</a:t>
            </a: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a pérennité des entrep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Arial"/>
              </a:rPr>
              <a:t>Création d’empl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Pourquoi l’éco-construc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6699"/>
                </a:solidFill>
                <a:latin typeface="Verdana"/>
              </a:rPr>
              <a:t>Le Cluster Ecobuild, qu’est-ce que c’es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6699"/>
                </a:solidFill>
                <a:latin typeface="Verdana"/>
              </a:rPr>
              <a:t>Le Cluster Ecobuild, quels avantag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629080" cy="885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ecobuild"/>
          <p:cNvPicPr/>
          <p:nvPr/>
        </p:nvPicPr>
        <p:blipFill>
          <a:blip r:embed="rId3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Le Cluster Ecobuild,</a:t>
            </a:r>
            <a:br>
              <a:rPr sz="3200"/>
            </a:b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quels avantag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99"/>
                </a:solidFill>
                <a:latin typeface="Arial"/>
              </a:rPr>
              <a:t>Pour la Rég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BE" sz="2800" spc="-1" strike="noStrike">
                <a:solidFill>
                  <a:srgbClr val="333399"/>
                </a:solidFill>
                <a:latin typeface="Arial"/>
              </a:rPr>
              <a:t>International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Arial"/>
              </a:rPr>
              <a:t>Renforcement de sa visibilité transrégionale et intern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Promotion</a:t>
            </a:r>
            <a:r>
              <a:rPr b="0" lang="fr-BE" sz="2400" spc="-1" strike="noStrike">
                <a:solidFill>
                  <a:srgbClr val="666699"/>
                </a:solidFill>
                <a:latin typeface="Arial"/>
              </a:rPr>
              <a:t> de</a:t>
            </a: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 l’ex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Arial"/>
              </a:rPr>
              <a:t>Intérêt accru pour les investisseurs étran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ecobuild"/>
          <p:cNvPicPr/>
          <p:nvPr/>
        </p:nvPicPr>
        <p:blipFill>
          <a:blip r:embed="rId1"/>
          <a:stretch/>
        </p:blipFill>
        <p:spPr>
          <a:xfrm>
            <a:off x="250920" y="5292720"/>
            <a:ext cx="1441440" cy="1327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ABEBAO_txt_1ligne"/>
          <p:cNvPicPr/>
          <p:nvPr/>
        </p:nvPicPr>
        <p:blipFill>
          <a:blip r:embed="rId2"/>
          <a:stretch/>
        </p:blipFill>
        <p:spPr>
          <a:xfrm>
            <a:off x="3095640" y="5661000"/>
            <a:ext cx="3205080" cy="85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logo RBCBHG"/>
          <p:cNvPicPr/>
          <p:nvPr/>
        </p:nvPicPr>
        <p:blipFill>
          <a:blip r:embed="rId3"/>
          <a:stretch/>
        </p:blipFill>
        <p:spPr>
          <a:xfrm>
            <a:off x="7885080" y="5734080"/>
            <a:ext cx="841320" cy="85248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179280" y="757080"/>
            <a:ext cx="8622000" cy="4394520"/>
            <a:chOff x="179280" y="757080"/>
            <a:chExt cx="8622000" cy="4394520"/>
          </a:xfrm>
        </p:grpSpPr>
        <p:pic>
          <p:nvPicPr>
            <p:cNvPr id="148" name="Picture 6" descr=""/>
            <p:cNvPicPr/>
            <p:nvPr/>
          </p:nvPicPr>
          <p:blipFill>
            <a:blip r:embed="rId4"/>
            <a:stretch/>
          </p:blipFill>
          <p:spPr>
            <a:xfrm>
              <a:off x="179280" y="757080"/>
              <a:ext cx="8622000" cy="439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7" descr=""/>
            <p:cNvPicPr/>
            <p:nvPr/>
          </p:nvPicPr>
          <p:blipFill>
            <a:blip r:embed="rId5"/>
            <a:stretch/>
          </p:blipFill>
          <p:spPr>
            <a:xfrm>
              <a:off x="3492360" y="3301920"/>
              <a:ext cx="388800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333399"/>
                </a:solidFill>
                <a:latin typeface="Verdana"/>
              </a:rPr>
              <a:t>Pourquoi l’éco-constructi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1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99"/>
                </a:solidFill>
                <a:latin typeface="Verdana"/>
              </a:rPr>
              <a:t>Pour l’Envir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99"/>
                </a:solidFill>
                <a:latin typeface="Verdana"/>
              </a:rPr>
              <a:t>Pour le Bien-être et la Santé des habi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99"/>
                </a:solidFill>
                <a:latin typeface="Verdana"/>
              </a:rPr>
              <a:t>Pour l’Economie et l’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333399"/>
                </a:solidFill>
                <a:latin typeface="Verdana"/>
              </a:rPr>
              <a:t>Pourquoi l’éco-constructi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1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Pour l’Environnement et le Bien-être et la Santé des habitants : énergie, air intérieur, eau, déch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666699"/>
                </a:solidFill>
                <a:latin typeface="Verdana"/>
              </a:rPr>
              <a:t>Is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666699"/>
                </a:solidFill>
                <a:latin typeface="Verdana"/>
              </a:rPr>
              <a:t>Energies renouvel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666699"/>
                </a:solidFill>
                <a:latin typeface="Verdana"/>
              </a:rPr>
              <a:t>gestion de l’eau (utilisation rationnelle, réutilisation de l’eau de pluie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666699"/>
                </a:solidFill>
                <a:latin typeface="Verdana"/>
              </a:rPr>
              <a:t>Matériaux et produits de construction sains, </a:t>
            </a:r>
            <a:r>
              <a:rPr b="0" lang="fr-FR" sz="1800" spc="-1" strike="noStrike">
                <a:solidFill>
                  <a:srgbClr val="666699"/>
                </a:solidFill>
                <a:latin typeface="Verdana"/>
              </a:rPr>
              <a:t>peu énergivores, recyclables, de provenance lo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333399"/>
                </a:solidFill>
                <a:latin typeface="Verdana"/>
              </a:rPr>
              <a:t>Pourquoi l’éco-constructi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1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99"/>
                </a:solidFill>
                <a:latin typeface="Verdana"/>
              </a:rPr>
              <a:t>Pour l’Economie et l’Emploi à </a:t>
            </a:r>
            <a:r>
              <a:rPr b="0" lang="fr-FR" sz="2400" spc="-1" strike="noStrike">
                <a:solidFill>
                  <a:srgbClr val="333399"/>
                </a:solidFill>
                <a:latin typeface="Verdana"/>
              </a:rPr>
              <a:t>Bruxel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370 nouvelles constructions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1080 rénovations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Secteur de la Construction : 3% de l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-&gt; potentiels intéressants pour l’éco-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99"/>
                </a:solidFill>
                <a:latin typeface="Verdana"/>
              </a:rPr>
              <a:t>Pourquoi l’éco-construc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66699"/>
                </a:solidFill>
                <a:latin typeface="Verdana"/>
              </a:rPr>
              <a:t>Le Cluster Ecobuild, qu’est-ce que c’es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6699"/>
                </a:solidFill>
                <a:latin typeface="Verdana"/>
              </a:rPr>
              <a:t>Le Cluster Ecobuild, quels avantag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629080" cy="885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ecobuild"/>
          <p:cNvPicPr/>
          <p:nvPr/>
        </p:nvPicPr>
        <p:blipFill>
          <a:blip r:embed="rId3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cobuild"/>
          <p:cNvPicPr/>
          <p:nvPr/>
        </p:nvPicPr>
        <p:blipFill>
          <a:blip r:embed="rId1"/>
          <a:stretch/>
        </p:blipFill>
        <p:spPr>
          <a:xfrm>
            <a:off x="179280" y="4437000"/>
            <a:ext cx="1441440" cy="1327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ABEBAO_txt_1ligne"/>
          <p:cNvPicPr/>
          <p:nvPr/>
        </p:nvPicPr>
        <p:blipFill>
          <a:blip r:embed="rId2"/>
          <a:stretch/>
        </p:blipFill>
        <p:spPr>
          <a:xfrm>
            <a:off x="1835280" y="2060640"/>
            <a:ext cx="4968720" cy="133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Le coordinateur du </a:t>
            </a:r>
            <a:r>
              <a:rPr b="1" lang="fr-BE" sz="2800" spc="-1" strike="noStrike">
                <a:solidFill>
                  <a:srgbClr val="99cc00"/>
                </a:solidFill>
                <a:latin typeface="Verdana"/>
              </a:rPr>
              <a:t>Cluster Eco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130640" y="189000"/>
            <a:ext cx="31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349720" y="4072680"/>
            <a:ext cx="53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Verdana"/>
              </a:rPr>
              <a:t>Approche économique et de soutien public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ecobuild"/>
          <p:cNvPicPr/>
          <p:nvPr/>
        </p:nvPicPr>
        <p:blipFill>
          <a:blip r:embed="rId1"/>
          <a:stretch/>
        </p:blipFill>
        <p:spPr>
          <a:xfrm>
            <a:off x="179280" y="4437000"/>
            <a:ext cx="1441440" cy="132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Les partenaires du </a:t>
            </a:r>
            <a:r>
              <a:rPr b="1" lang="fr-BE" sz="2800" spc="-1" strike="noStrike">
                <a:solidFill>
                  <a:srgbClr val="99cc00"/>
                </a:solidFill>
                <a:latin typeface="Verdana"/>
              </a:rPr>
              <a:t>Cluster Eco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4130640" y="189000"/>
            <a:ext cx="31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6836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Verdana"/>
              </a:rPr>
              <a:t>Bruxelles Environnement – IB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Verdana"/>
              </a:rPr>
              <a:t>Centre Scientifique et Technique de la Construction (CS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Verdana"/>
              </a:rPr>
              <a:t>Confédération Construction Bruxelles-Capitale (CCB-C</a:t>
            </a:r>
            <a:r>
              <a:rPr b="0" lang="fr-FR" sz="2400" spc="-1" strike="noStrike">
                <a:solidFill>
                  <a:srgbClr val="333399"/>
                </a:solidFill>
                <a:latin typeface="Verdana"/>
              </a:rPr>
              <a:t>)</a:t>
            </a:r>
            <a:r>
              <a:rPr b="0" lang="fr-FR" sz="3200" spc="-1" strike="noStrike">
                <a:solidFill>
                  <a:srgbClr val="66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IBGE"/>
          <p:cNvPicPr/>
          <p:nvPr/>
        </p:nvPicPr>
        <p:blipFill>
          <a:blip r:embed="rId3"/>
          <a:stretch/>
        </p:blipFill>
        <p:spPr>
          <a:xfrm>
            <a:off x="5365800" y="1773360"/>
            <a:ext cx="2735280" cy="51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LOGO CSTC - WTCB copie"/>
          <p:cNvPicPr/>
          <p:nvPr/>
        </p:nvPicPr>
        <p:blipFill>
          <a:blip r:embed="rId4"/>
          <a:stretch/>
        </p:blipFill>
        <p:spPr>
          <a:xfrm>
            <a:off x="5651640" y="3078000"/>
            <a:ext cx="1295280" cy="92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CB-C"/>
          <p:cNvPicPr/>
          <p:nvPr/>
        </p:nvPicPr>
        <p:blipFill>
          <a:blip r:embed="rId5"/>
          <a:stretch/>
        </p:blipFill>
        <p:spPr>
          <a:xfrm>
            <a:off x="5867280" y="4869000"/>
            <a:ext cx="9367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Le Cluster Ecobuild,</a:t>
            </a:r>
            <a:br>
              <a:rPr sz="3200"/>
            </a:br>
            <a:r>
              <a:rPr b="1" lang="fr-BE" sz="3200" spc="-1" strike="noStrike">
                <a:solidFill>
                  <a:srgbClr val="666699"/>
                </a:solidFill>
                <a:latin typeface="Verdana"/>
              </a:rPr>
              <a:t>qu’est-ce que c’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99"/>
                </a:solidFill>
                <a:latin typeface="Verdana"/>
                <a:ea typeface="Times New Roman"/>
              </a:rPr>
              <a:t>« Co</a:t>
            </a:r>
            <a:r>
              <a:rPr b="0" lang="fr-FR" sz="2800" spc="-1" strike="noStrike">
                <a:solidFill>
                  <a:srgbClr val="333399"/>
                </a:solidFill>
                <a:latin typeface="Verdana"/>
                <a:ea typeface="Times New Roman"/>
              </a:rPr>
              <a:t>ncentration géographique d´entreprises et d´institutions interconnectées</a:t>
            </a:r>
            <a:r>
              <a:rPr b="0" lang="fr-BE" sz="2800" spc="-1" strike="noStrike">
                <a:solidFill>
                  <a:srgbClr val="333399"/>
                </a:solidFill>
                <a:latin typeface="Verdana"/>
                <a:ea typeface="Times New Roman"/>
              </a:rPr>
              <a:t>,</a:t>
            </a:r>
            <a:r>
              <a:rPr b="0" lang="fr-FR" sz="2800" spc="-1" strike="noStrike">
                <a:solidFill>
                  <a:srgbClr val="333399"/>
                </a:solidFill>
                <a:latin typeface="Verdana"/>
                <a:ea typeface="Times New Roman"/>
              </a:rPr>
              <a:t> dans un secteur particulier » (Porter, 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Verdana"/>
              </a:rPr>
              <a:t>Un outil de développement et de promotion d’un secteur et de sa compétitivit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0:04:49Z</dcterms:created>
  <dc:creator>pad</dc:creator>
  <dc:description/>
  <dc:language>en-US</dc:language>
  <cp:lastModifiedBy>Bénédicte Mercenier</cp:lastModifiedBy>
  <dcterms:modified xsi:type="dcterms:W3CDTF">2014-09-26T06:59:30Z</dcterms:modified>
  <cp:revision>4</cp:revision>
  <dc:subject/>
  <dc:title>Slide 1</dc:title>
</cp:coreProperties>
</file>