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276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276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65160" y="801720"/>
            <a:ext cx="56260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0000" y="7236000"/>
            <a:ext cx="6178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binet Huytebroeck – Architecture &amp; Construction/Rénovation durable : Batibouw 29/02/2008 – page </a:t>
            </a:r>
            <a:fld id="{A408A44B-1D53-4207-8FF4-C8266171F80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471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4716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298440">
              <a:lnSpc>
                <a:spcPct val="2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27324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1276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8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561960"/>
            <a:ext cx="9720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Salon Batibouw 2008</a:t>
            </a:r>
            <a:br>
              <a:rPr sz="32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rchitecture &amp; Construction/Rénovation durable : les derniers développements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1940040"/>
            <a:ext cx="8607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Le Défi de l'Energ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t de l'éco-construction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  Brux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Grégoire Clerfay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ellule Energie – Cabinet de Evelyne Huytebroeck, Ministre bruxelloise de l'Environnement et de l'Energ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 potentiel d'évolu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4360" y="6659280"/>
            <a:ext cx="4535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ût moyen du passif – appel à projet 2007 : 1.284 €/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918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emple : le siège de Blaton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000 m² bureau passif : 15 kWhchauff./m².a - E40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984320"/>
            <a:ext cx="9037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lémentaires - pas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ples vit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 passives de refroidissemen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 algn="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12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ri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 algn="r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-  180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upplément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+ 32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Économie de consommation :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     6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Temps d’amortissement (prix E 2007)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5,3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Economie CO2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30  TCO2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99280" y="144000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64520" y="539640"/>
            <a:ext cx="73512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emple :Renove-Electric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500 m² passif bureau K21 – Atelier K13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lémentaires - pas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lation et triples vit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 passives de refroidiss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nneaux solai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 algn="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0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ri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 algn="r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co/chauff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-  104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upplément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+ 96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Économie de consommation :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   10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Temps d’amortissement (prix E 2007)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10 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Economie CO2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8  TCO2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0360" y="1440000"/>
            <a:ext cx="324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Politique bruxelloise de l'énergie</a:t>
            </a:r>
            <a:br>
              <a:rPr sz="4000"/>
            </a:b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7 axes de développemen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0520" y="2160720"/>
            <a:ext cx="9159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2400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Vaincre les barr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velopper la culture de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rir une aide technique spéci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er les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citer, démontrer les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der à la qualité des investissements (passif : 100€/m²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er structurellement le cadre l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velopper l'économie de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get : 3,6 Mio € (2004) --&gt; 30 Mio € (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es : 1 Mio € (200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 11 Mio € (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0360" y="1979640"/>
            <a:ext cx="3060720" cy="2021040"/>
          </a:xfrm>
          <a:prstGeom prst="rect">
            <a:avLst/>
          </a:prstGeom>
          <a:solidFill>
            <a:srgbClr val="94bd5e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 Climat bruxel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08--&gt;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emple : Outils à disposi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rtia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s cahier des charges de référence Energie+ pour maître d’ouvrage et concepteur;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rtia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 CD Rome Energie+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gement collec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 guide conseil – Fiches pratiques pour la conception énergétique et durable - pour maître d’ouvrage et pour concepteur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tit bâti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guide pratique pour la construction et la rénovation durables de petits immeubles –pour maître d’ouvrage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 Building Brusse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grille d'analyse des performances environnementales et énergétique d'un bâtiments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: énerg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 : 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emple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rvices d'aide de la Rég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3391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Facilitateu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Terti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Logements collectifs (&gt;1.000 m², &gt; 10 logement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ce Bruxelloise de l'Energie ABEA : lo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Cogén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Energies Renouvelables – Grands S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Eco-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Quartiers Du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-&gt; Guidance personn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2519280"/>
            <a:ext cx="1800" cy="3419640"/>
          </a:xfrm>
          <a:prstGeom prst="line">
            <a:avLst/>
          </a:prstGeom>
          <a:ln w="14400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09160"/>
            <a:ext cx="9072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Ordonnance PEB</a:t>
            </a:r>
            <a:br>
              <a:rPr sz="3600"/>
            </a:b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Performance Energétique des Bâtiment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97964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38000"/>
              </a:lnSpc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du consommateur, performance E, confort, Cli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38000"/>
              </a:lnSpc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âtiment neuf et Rénovation lourde (juillet 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novation simple (juillet 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ion des bâtiments existants (2009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'entretien et le contrôle des installations techniques : chauffage et climatisation (2009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09160"/>
            <a:ext cx="9072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Exigences PEB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9612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6000"/>
              </a:lnSpc>
              <a:spcBef>
                <a:spcPts val="1137"/>
              </a:spcBef>
              <a:spcAft>
                <a:spcPts val="11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âtiment 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08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E90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0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9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11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70/E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40/K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max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nêtre 2,5 – toiture : 0,3 – mur : 0,4,sol : 0,6 W/m².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i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chau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s techniques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rûleur, clapet, calorifugeage, partionnement et zonage chaud et froid, programmation,  comptage  chaleur et froid,unité P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76000"/>
              </a:lnSpc>
              <a:spcBef>
                <a:spcPts val="1137"/>
              </a:spcBef>
              <a:spcAft>
                <a:spcPts val="11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éno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x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nêtre 2,5 – toiture : 0,3 – mur : 0,4,sol : 0,6 W/m².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i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s techniques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rûleur, clapet, calorifugeage, partionnement et zonage chaud et froid, programmation,  comptage  chaleur et froid,unité P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cun peut agir à son nive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 potentiel  technique est én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s solutions sont souvent simples et faciles à mettre en oeuv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rentabilité financière est bien prés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d'autant plus si le prix de l'énergie continue à augmen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il faut enco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 l'envie et de la clairvoy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 opérateurs compé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 financements alternatives pour vaincre la barrière de la mise de f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us d'obligations réglementaires pour accélerer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356000"/>
            <a:ext cx="3060720" cy="1403280"/>
          </a:xfrm>
          <a:prstGeom prst="rect">
            <a:avLst/>
          </a:prstGeom>
          <a:solidFill>
            <a:srgbClr val="94bd5e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 Climat bruxel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08--&gt;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ilan énergétique 1990 - 200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60720" y="2160360"/>
            <a:ext cx="54007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460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ement 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41,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tiaire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30,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ie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3,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3,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res 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1,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6 T(10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 16,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2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L'isolation n'est pas performante en Belgiqu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2160720"/>
            <a:ext cx="3759480" cy="13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03200" indent="0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solation des 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(logement neu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- 200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0720" y="3576600"/>
            <a:ext cx="3675240" cy="344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905440" y="3459240"/>
            <a:ext cx="345456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40160" y="2056320"/>
            <a:ext cx="411984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3" marL="685800" indent="-193680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-193680" algn="ctr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éperdition thermique des murs e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-193680" algn="ctr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(logement neu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- 200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0360" y="368280"/>
            <a:ext cx="690876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ertiaire – Efficacité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63760" y="4233960"/>
            <a:ext cx="8150040" cy="3341520"/>
            <a:chOff x="1463760" y="4233960"/>
            <a:chExt cx="8150040" cy="3341520"/>
          </a:xfrm>
        </p:grpSpPr>
        <p:sp>
          <p:nvSpPr>
            <p:cNvPr id="99" name=""/>
            <p:cNvSpPr/>
            <p:nvPr/>
          </p:nvSpPr>
          <p:spPr>
            <a:xfrm>
              <a:off x="1463760" y="4233960"/>
              <a:ext cx="8150040" cy="315576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3760" y="4233960"/>
              <a:ext cx="8150040" cy="33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Bureau privé  bruxellois : consommation spécifique électrique et consommation de chauffage (2005)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Bureau public  bruxellois : consommation spécifique électrique et consommation de chauffage (2005)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9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61840" y="1562040"/>
            <a:ext cx="37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75280" y="1584360"/>
            <a:ext cx="37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6920" y="4390920"/>
            <a:ext cx="378000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00720" y="4467240"/>
            <a:ext cx="377964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Quel est le potentiel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ans un bâtiment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Maîtriser la deman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ncep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-30% à -85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gestion des équipements (-5% à -2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comportement des occupants (-5% à -1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8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urnir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acité de la production (-2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urs aux énergies renouvelable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∞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 Défi Energie</a:t>
            </a:r>
            <a:br>
              <a:rPr sz="4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périence bruxelloise 2005/2006 et 2006/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5800" indent="-31104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ses comportements à la maison et dans ses déplacements – sans inves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uer sa consommation de référence au dé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isir son Défi (les ges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ver régulièrement sa consom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Réduction d'une tonne de CO2/mé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fi 2005/2006 : 200 mén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mesurée de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fi 2006/2007 : 1300 mén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mesurée de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300720"/>
            <a:ext cx="90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75680" y="2340000"/>
            <a:ext cx="1805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s audits énergétiques</a:t>
            </a:r>
            <a:br>
              <a:rPr sz="4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emple 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bâtiments tertiair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9.000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eur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71 kWh/m².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10€/m².a  (3,7 c€/kW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ité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7 kWh/m².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12€/m².a (11 c€/kW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6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énerg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22€/m²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tentiel de ré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eur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5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ité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2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s de retour sur investissement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,9 a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rix E 200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rogramme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L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ocal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d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'A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ction de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G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stion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de l'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nergie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périence bruxelloise 2005,2006,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51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tre en place une politique active de maîtrise de l'énerg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str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able et organisatio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iper les inefficacités : audits et plan d'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gences dans les invest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 communes, 7 hôpitaux, 2 logements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de la consommation du parc  -20% à –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 3 à 5 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62532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âtiments exemplaire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pel à projets 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 : des réalisations exemplaires à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erformant : énergie + 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echniquement repro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inancièrement sup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ide régionale de 90 €/m² M.O. et 10 €/m² Archit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sult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6 projets reçus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200.000 m² de bât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9 projets sélectionnés – 128.000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percée du concept passif et basse énergie (¾ des projet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égoire Clerfayt</dc:creator>
  <dc:description/>
  <dc:language>en-US</dc:language>
  <cp:lastModifiedBy/>
  <cp:revision>0</cp:revision>
  <dc:subject/>
  <dc:title/>
</cp:coreProperties>
</file>