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731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5572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77316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A63A-1E5E-4E06-BB94-46BB0C5C4B4C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6DA5-5AA0-4A53-8DF8-FF03538CFC9E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76F6-CC9F-458B-B4A9-A9A6385EA7BD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1DB4-C4F7-413F-9B65-CBCAD5A20945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5013-3C32-4FD2-B4CD-8E305626C2CB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423D-8744-4F7C-9C49-905D6A7CC4B4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336F-A76A-461F-BCE3-D19F94241209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E5D9-F923-4B80-A310-2A89AD4E42EC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183E-4EFD-4F89-8F76-58A02F11DB65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BF9F-AA2E-434E-B8F9-DE6837E03314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A49C-BE69-460B-9A05-D449104D3EAF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5E44-1487-4FFF-B680-B27402035657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8C2E-5230-48F3-B1E3-5B04056615EB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E4A2-9F6B-4346-AE08-577B4CA6D536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4786-FDB4-41F3-9781-EE3ED14EF4B2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47EE-F89E-4B45-AEF9-D369E16BEC35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22B7-9B2D-43DD-811C-C320F6991834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5A25-544F-488D-BCB0-BD5133D921E8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EB99-B36D-4C1B-ADF9-32FD349582E8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872D-9C96-4B88-B070-D308A66A90C3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4CD8-3761-4420-8E16-32E398F9624E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E9CE-F131-4642-96B9-2C96D2D59E3B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BA0A-5C8F-4FEA-A074-B11C8A81CABE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89BE-AE69-4271-8CAC-5DC0C4F4BBD8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69C0-56CE-485E-BF8E-4254ED6BF9B8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3C09-41E7-43B9-95BB-7C25C5B99FF2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DDF7-C719-41C3-89F7-DEFFE5A7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55640" y="40255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9B27-6F1F-4B41-A025-3A93F0BC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94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55640" y="40255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9440" y="40255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0D8-2A32-48DE-911D-4FC35B71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57720" y="191628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9800" y="191628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55640" y="40255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57720" y="40255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9800" y="40255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E48-C422-4CBE-AC4B-FD032B3F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C04C-9995-4444-AE14-32D8B7ED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B844-2818-4B43-9EA2-8EFF19A3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BF10-D4AC-4B75-93FA-201F3195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9440" y="191628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FDEB-2EF4-40DB-849C-4ACC10C0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1235-C100-4CA4-A2D7-003C3541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36BB-1ED2-4C3D-8DA1-18E566FB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9440" y="191628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5640" y="40255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6CAB-8222-4FC5-97C8-34676BA2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9F4-2E95-45FB-B0B3-901A6617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94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9440" y="40255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0D93-571C-4DE5-9FB1-B0762C0B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94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55640" y="40255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6601-5321-4E29-91DD-5AABD5B5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55640" y="40255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F36A-A89C-4DB6-96F5-409672CE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94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55640" y="40255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9440" y="40255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E6FF-63C5-49C9-9E8C-A15E7D0A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7720" y="191628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9800" y="191628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55640" y="40255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7720" y="40255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9800" y="40255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EE82-3FAE-4A1E-BBEF-8B840126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753-FB47-479D-B84F-3A047AE1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9440" y="191628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8655-2182-4D98-8350-09A3D56B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292F-82DB-4FF8-9B70-19F3F4C6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F8CD-1C58-466D-9428-C4F6B0BE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9440" y="191628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55640" y="40255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2CC-06EC-4CF5-BBF4-06F6A1BF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94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9440" y="40255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577-E935-4F5B-8D17-A96A9EDB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94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5640" y="40255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A12-35EF-4CC8-AB6B-E8F8D7D3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6084720" y="5211720"/>
            <a:ext cx="2535480" cy="949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5D7F-5312-40E6-82E9-5EE059B8C2D5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7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371600" y="4365720"/>
            <a:ext cx="6400800" cy="12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2"/>
          <a:stretch/>
        </p:blipFill>
        <p:spPr>
          <a:xfrm>
            <a:off x="2484360" y="765000"/>
            <a:ext cx="4105440" cy="1536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2F26-8D09-4A9E-8EAB-32C24D2B0BCE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a.gijbels@cedubo.be" TargetMode="External"/><Relationship Id="rId2" Type="http://schemas.openxmlformats.org/officeDocument/2006/relationships/hyperlink" Target="http://www.cedubo.be/" TargetMode="External"/><Relationship Id="rId3" Type="http://schemas.openxmlformats.org/officeDocument/2006/relationships/hyperlink" Target="http://www.duwobo.be/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3567240"/>
            <a:ext cx="7772400" cy="34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 Black"/>
              </a:rPr>
              <a:t>VLAANDEREN IN DE STEIGER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63280" y="4797000"/>
            <a:ext cx="5410440" cy="2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99cc00"/>
                </a:solidFill>
                <a:latin typeface="Arial"/>
              </a:rPr>
              <a:t>VISIE OP DUURZAAM WONEN EN BOUWEN IN 2030 EN ACTIE VOOR NU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36666"/>
                </a:solidFill>
                <a:latin typeface="Arial"/>
              </a:rPr>
              <a:t>Batibouw 29/2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Duurzaam wonen en bouw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 u="sng">
                <a:solidFill>
                  <a:srgbClr val="336666"/>
                </a:solidFill>
                <a:uFillTx/>
                <a:latin typeface="Arial"/>
              </a:rPr>
              <a:t>7 ambities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6666"/>
                </a:solidFill>
                <a:latin typeface="Arial"/>
              </a:rPr>
              <a:t>Geïntegreerde bena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6666"/>
                </a:solidFill>
                <a:latin typeface="Arial"/>
              </a:rPr>
              <a:t>Gedeelde verantwoordelijkheid en transparante besluitv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6666"/>
                </a:solidFill>
                <a:latin typeface="Arial"/>
              </a:rPr>
              <a:t>Hoge kwaliteit van het gebouw en de leefom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6666"/>
                </a:solidFill>
                <a:latin typeface="Arial"/>
              </a:rPr>
              <a:t>Toegankelijk en sociaal rechtvaar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6666"/>
                </a:solidFill>
                <a:latin typeface="Arial"/>
              </a:rPr>
              <a:t>Balans tussen privaat en collectief gebru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6666"/>
                </a:solidFill>
                <a:latin typeface="Arial"/>
              </a:rPr>
              <a:t>Gesloten kringlopen van stoffen en materi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6666"/>
                </a:solidFill>
                <a:latin typeface="Arial"/>
              </a:rPr>
              <a:t>Economisch gezonde en maatschappelijk verantwoorde bouws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Duurzaam wonen en bouw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 u="sng">
                <a:solidFill>
                  <a:srgbClr val="336666"/>
                </a:solidFill>
                <a:uFillTx/>
                <a:latin typeface="Arial"/>
              </a:rPr>
              <a:t>Wijkniv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Leefbaarheid van grote en kleine kernen: zowel sociaal als econom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Herwaardering voor open ruimte en platt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Duurzaam wonen en bouw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 u="sng">
                <a:solidFill>
                  <a:srgbClr val="336666"/>
                </a:solidFill>
                <a:uFillTx/>
                <a:latin typeface="Arial"/>
              </a:rPr>
              <a:t>Gebouwnivea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Zo weinig mogelijk milieu-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Op maat van de gebrui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Toegankelijk voor iedereen: zowel fysiek als soc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Werkgroep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799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Samen leren: vorming en oplei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99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Innovatie en bouwproce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99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Sluit de kring –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99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Sluit de kring –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99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Levende kernen – wonen voor het 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Ambitie voor 2030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Uitgebreid netwerk van gespecialiseerde en competente onderne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Goede informatievoorziening (overheid én onderwij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Kringlopen worden zo kort mogelijk gehouden – afval is tot een minimum bep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Ambitie voor 2030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Wonen is modulair en aanpasbaar aan de veranderende eisen van de bewoners (eigenaar </a:t>
            </a:r>
            <a:r>
              <a:rPr b="0" lang="nl-BE" sz="2800" spc="-1" strike="noStrike">
                <a:solidFill>
                  <a:srgbClr val="336666"/>
                </a:solidFill>
                <a:latin typeface="Arial"/>
                <a:ea typeface="Arial"/>
              </a:rPr>
              <a:t>→</a:t>
            </a: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 huurd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De woonomgeving is gebruiksvriendelijk, leefbaar en toegankelij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De woningen voldoen aan het milieupe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Het bouwproces is transpa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Ambitie voor 2030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Een snelle en efficiënte omschakeling van de huidige situatie naar deze streefbeelden kan enkel bekomen worden door een </a:t>
            </a:r>
            <a:r>
              <a:rPr b="1" lang="nl-BE" sz="3200" spc="-1" strike="noStrike">
                <a:solidFill>
                  <a:srgbClr val="99cc00"/>
                </a:solidFill>
                <a:latin typeface="Arial"/>
              </a:rPr>
              <a:t>transitie</a:t>
            </a: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Transitie - experiment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 u="sng">
                <a:solidFill>
                  <a:srgbClr val="336666"/>
                </a:solidFill>
                <a:uFillTx/>
                <a:latin typeface="Arial"/>
              </a:rPr>
              <a:t>Bv. Diepenbeek – Dorpheide I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Steunpunt DUBO Lim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Verkoopsovereenkomst met voorwaarde fase 1 – E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De kopers zijn bereid om verder te gaan dan E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Nieuwe verkaveling met strengere voorwaarden voor fase 2 – E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95092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Transitie - experiment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anvrager: gemeente Diepenb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eetl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900" spc="-1" strike="noStrike">
                <a:solidFill>
                  <a:srgbClr val="000000"/>
                </a:solidFill>
                <a:latin typeface="Arial"/>
              </a:rPr>
              <a:t>Fase 1: 11 percel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500" spc="-1" strike="noStrike">
                <a:solidFill>
                  <a:srgbClr val="000000"/>
                </a:solidFill>
                <a:latin typeface="Arial"/>
              </a:rPr>
              <a:t>Suggesties Meetl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500" spc="-1" strike="noStrike">
                <a:solidFill>
                  <a:srgbClr val="000000"/>
                </a:solidFill>
                <a:latin typeface="Arial"/>
              </a:rPr>
              <a:t>Verkoopsovereenkom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ebruik hemel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x. E-peil 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900" spc="-1" strike="noStrike">
                <a:solidFill>
                  <a:srgbClr val="000000"/>
                </a:solidFill>
                <a:latin typeface="Arial"/>
              </a:rPr>
              <a:t>Fase 2: 34 percel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500" spc="-1" strike="noStrike">
                <a:solidFill>
                  <a:srgbClr val="000000"/>
                </a:solidFill>
                <a:latin typeface="Arial"/>
              </a:rPr>
              <a:t>INTERREG projectvoorst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500" spc="-1" strike="noStrike">
                <a:solidFill>
                  <a:srgbClr val="000000"/>
                </a:solidFill>
                <a:latin typeface="Arial"/>
              </a:rPr>
              <a:t>Demonstratieproject duurzame energie (E6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500" spc="-1" strike="noStrike">
                <a:solidFill>
                  <a:srgbClr val="000000"/>
                </a:solidFill>
                <a:latin typeface="Arial"/>
              </a:rPr>
              <a:t>KHLim, PHL, UHasselt, Steunpu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500" spc="-1" strike="noStrike">
                <a:solidFill>
                  <a:srgbClr val="000000"/>
                </a:solidFill>
                <a:latin typeface="Arial"/>
              </a:rPr>
              <a:t>Interesse van private partn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tatus: lop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012000" y="2205000"/>
            <a:ext cx="2736720" cy="2247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banner_meetlat_flat"/>
          <p:cNvPicPr/>
          <p:nvPr/>
        </p:nvPicPr>
        <p:blipFill>
          <a:blip r:embed="rId2"/>
          <a:stretch/>
        </p:blipFill>
        <p:spPr>
          <a:xfrm>
            <a:off x="1042920" y="5300640"/>
            <a:ext cx="759636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Transitie - experiment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336666"/>
                </a:solidFill>
                <a:uFillTx/>
                <a:latin typeface="Arial"/>
              </a:rPr>
              <a:t>Bv. Advies voor stadsvernieuwingsprojec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35 aandachtspunten voor sv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NGO’s met expertise in verschillende discip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Leidraad voor advies aan s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Projectvoor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1 coördinerende NGO + 3 adviserende NG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Transitie duwob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100" spc="-1" strike="noStrike">
                <a:solidFill>
                  <a:srgbClr val="336666"/>
                </a:solidFill>
                <a:latin typeface="Arial"/>
              </a:rPr>
              <a:t>Transitie</a:t>
            </a: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een </a:t>
            </a:r>
            <a:r>
              <a:rPr b="1" lang="nl-BE" sz="3100" spc="-1" strike="noStrike" u="sng">
                <a:solidFill>
                  <a:srgbClr val="336666"/>
                </a:solidFill>
                <a:uFillTx/>
                <a:latin typeface="Arial"/>
              </a:rPr>
              <a:t>radicale</a:t>
            </a:r>
            <a:r>
              <a:rPr b="0" lang="nl-BE" sz="3100" spc="-1" strike="noStrike" u="sng">
                <a:solidFill>
                  <a:srgbClr val="336666"/>
                </a:solidFill>
                <a:uFillTx/>
                <a:latin typeface="Arial"/>
              </a:rPr>
              <a:t> </a:t>
            </a:r>
            <a:r>
              <a:rPr b="1" lang="nl-BE" sz="3100" spc="-1" strike="noStrike" u="sng">
                <a:solidFill>
                  <a:srgbClr val="336666"/>
                </a:solidFill>
                <a:uFillTx/>
                <a:latin typeface="Arial"/>
              </a:rPr>
              <a:t>verandering</a:t>
            </a: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 naar duurzamer wonen en bouwen waarbij </a:t>
            </a:r>
            <a:r>
              <a:rPr b="1" lang="nl-BE" sz="3200" spc="-1" strike="noStrike" u="sng">
                <a:solidFill>
                  <a:srgbClr val="336666"/>
                </a:solidFill>
                <a:uFillTx/>
                <a:latin typeface="Arial"/>
              </a:rPr>
              <a:t>alle actoren</a:t>
            </a: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 betrokken zij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100" spc="-1" strike="noStrike">
                <a:solidFill>
                  <a:srgbClr val="336666"/>
                </a:solidFill>
                <a:latin typeface="Arial"/>
              </a:rPr>
              <a:t>Lange termijnvisi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100" spc="-1" strike="noStrike">
                <a:solidFill>
                  <a:srgbClr val="336666"/>
                </a:solidFill>
                <a:latin typeface="Arial"/>
              </a:rPr>
              <a:t>Leren door experimenter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100" spc="-1" strike="noStrike">
                <a:solidFill>
                  <a:srgbClr val="336666"/>
                </a:solidFill>
                <a:latin typeface="Arial"/>
              </a:rPr>
              <a:t>Multiplicatoreffe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Transitie - experiment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336666"/>
                </a:solidFill>
                <a:latin typeface="Arial"/>
              </a:rPr>
              <a:t>De transitie – arena: </a:t>
            </a: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(23/4/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Zoekt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Helpt coalities te bewerkstell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Biedt hulp bij het zoeken van financi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Verspreidt de resul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In de toekomst zal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het renoveren/aanpassen van bestaande woningen belangrijker wo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het ontwerp van een nieuwe woning, een nieuwe wijk of een stad meer doordacht gebeur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In de toekomst 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6666"/>
                </a:solidFill>
                <a:latin typeface="Arial"/>
              </a:rPr>
              <a:t>Ruimtelijke versnippering maakt plaats voor ruimtelijke ord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367272_603_1118819872464-groenbeleidsplanoverzicht"/>
          <p:cNvPicPr/>
          <p:nvPr/>
        </p:nvPicPr>
        <p:blipFill>
          <a:blip r:embed="rId1"/>
          <a:stretch/>
        </p:blipFill>
        <p:spPr>
          <a:xfrm>
            <a:off x="611280" y="3933720"/>
            <a:ext cx="2232000" cy="1884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sloterplas4"/>
          <p:cNvPicPr/>
          <p:nvPr/>
        </p:nvPicPr>
        <p:blipFill>
          <a:blip r:embed="rId2"/>
          <a:stretch/>
        </p:blipFill>
        <p:spPr>
          <a:xfrm>
            <a:off x="3924360" y="3068640"/>
            <a:ext cx="3311640" cy="26020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8"/>
          <p:cNvSpPr/>
          <p:nvPr/>
        </p:nvSpPr>
        <p:spPr>
          <a:xfrm>
            <a:off x="3059280" y="4508640"/>
            <a:ext cx="718920" cy="792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7cd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In de toekomst 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6666"/>
                </a:solidFill>
                <a:latin typeface="Arial"/>
              </a:rPr>
              <a:t>leefbare w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3419640" y="4508640"/>
            <a:ext cx="718920" cy="792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7cd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vliegtuig021"/>
          <p:cNvPicPr/>
          <p:nvPr/>
        </p:nvPicPr>
        <p:blipFill>
          <a:blip r:embed="rId1"/>
          <a:stretch/>
        </p:blipFill>
        <p:spPr>
          <a:xfrm>
            <a:off x="4356000" y="2133720"/>
            <a:ext cx="2556000" cy="3527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klushuizen-2"/>
          <p:cNvPicPr/>
          <p:nvPr/>
        </p:nvPicPr>
        <p:blipFill>
          <a:blip r:embed="rId2"/>
          <a:stretch/>
        </p:blipFill>
        <p:spPr>
          <a:xfrm>
            <a:off x="250920" y="3429000"/>
            <a:ext cx="29350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In de toekomst 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6666"/>
                </a:solidFill>
                <a:latin typeface="Arial"/>
              </a:rPr>
              <a:t>duurzame en comfortabele won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4067280" y="4221000"/>
            <a:ext cx="718920" cy="792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98000 h 792360"/>
              <a:gd name="textAreaBottom" fmla="*/ 594360 h 792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7cd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dworp%20voor"/>
          <p:cNvPicPr/>
          <p:nvPr/>
        </p:nvPicPr>
        <p:blipFill>
          <a:blip r:embed="rId1"/>
          <a:srcRect l="0" t="0" r="0" b="1512"/>
          <a:stretch/>
        </p:blipFill>
        <p:spPr>
          <a:xfrm>
            <a:off x="900000" y="3284640"/>
            <a:ext cx="2772000" cy="1830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overzicht"/>
          <p:cNvPicPr/>
          <p:nvPr/>
        </p:nvPicPr>
        <p:blipFill>
          <a:blip r:embed="rId2"/>
          <a:stretch/>
        </p:blipFill>
        <p:spPr>
          <a:xfrm>
            <a:off x="4859280" y="2708280"/>
            <a:ext cx="37800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Samen kunnen we verder gaan…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13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336666"/>
                </a:solidFill>
                <a:latin typeface="Arial"/>
              </a:rPr>
              <a:t>  </a:t>
            </a:r>
            <a:r>
              <a:rPr b="1" lang="nl-BE" sz="3200" spc="-1" strike="noStrike">
                <a:solidFill>
                  <a:srgbClr val="336666"/>
                </a:solidFill>
                <a:latin typeface="Arial"/>
              </a:rPr>
              <a:t>Transitie duurzaam wonen en b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Annita Gij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a.gijbels@cedubo.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www.cedubo.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www.duwobo.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cdb-huisje - briefhoofd"/>
          <p:cNvPicPr/>
          <p:nvPr/>
        </p:nvPicPr>
        <p:blipFill>
          <a:blip r:embed="rId4"/>
          <a:stretch/>
        </p:blipFill>
        <p:spPr>
          <a:xfrm>
            <a:off x="4356000" y="4005360"/>
            <a:ext cx="1219320" cy="1224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image_mini"/>
          <p:cNvPicPr/>
          <p:nvPr/>
        </p:nvPicPr>
        <p:blipFill>
          <a:blip r:embed="rId5"/>
          <a:stretch/>
        </p:blipFill>
        <p:spPr>
          <a:xfrm>
            <a:off x="6227640" y="4005360"/>
            <a:ext cx="19051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Transitie duwob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Duurzame ontwikk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Knel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Duurzaam wonen en b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Werkgroepen - experi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Ambitie voor 20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Duurzame ontwikkeling - bouw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Gezonde, veilige en sociale woonomgeving (</a:t>
            </a:r>
            <a:r>
              <a:rPr b="0" lang="nl-BE" sz="3200" spc="-1" strike="noStrike">
                <a:solidFill>
                  <a:srgbClr val="99cc00"/>
                </a:solidFill>
                <a:latin typeface="Arial"/>
              </a:rPr>
              <a:t>sociaal-cultureel</a:t>
            </a: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Woning met geringe impact op het milieu (</a:t>
            </a:r>
            <a:r>
              <a:rPr b="0" lang="nl-BE" sz="3200" spc="-1" strike="noStrike">
                <a:solidFill>
                  <a:srgbClr val="99cc00"/>
                </a:solidFill>
                <a:latin typeface="Arial"/>
              </a:rPr>
              <a:t>ecologisch</a:t>
            </a: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Woning op maat van de behoeften van de bewoners (</a:t>
            </a:r>
            <a:r>
              <a:rPr b="0" lang="nl-BE" sz="3200" spc="-1" strike="noStrike">
                <a:solidFill>
                  <a:srgbClr val="99cc00"/>
                </a:solidFill>
                <a:latin typeface="Arial"/>
              </a:rPr>
              <a:t>economisch</a:t>
            </a: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Duurzame ontwikkel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Er is een radicale verandering nodi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Cul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Werkwij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Knelpunt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84280" indent="-5842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Individualistische en starre wooncultuur: hoog percentage honkvaste eigena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Beperkte flexibiliteit in de bouwcultuur: economische overweging speelt in op korte termijn vra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Geringe participatie is een drempel voor duurzame systeeminnov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Tekort aan betaalbare, kwaliteitsvolle, gezonde en veilige wo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Verminderd sociaal buurtnet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Knelpunt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Te weinig zorgaspecten in het wonen met als gevolg fysieke ontoegankelijkheid, onvoldoende onderhou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Geen coherent overheidsbeleid door versnipperde bevoegd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Eindige beschikbare ruim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Geen afstemming van wonen en bouwen met de draagkracht van het milieu: stijgend gebruik van natuurlijke bro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Ruimte en voorzieningen zijn bepalend bij de keuze van de locatie: prijzen stij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Duurzaam wonen en bouw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 u="sng">
                <a:solidFill>
                  <a:srgbClr val="99cc00"/>
                </a:solidFill>
                <a:uFillTx/>
                <a:latin typeface="Arial"/>
              </a:rPr>
              <a:t>Visi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1" lang="nl-BE" sz="3600" spc="-1" strike="noStrike">
                <a:solidFill>
                  <a:srgbClr val="99cc00"/>
                </a:solidFill>
                <a:latin typeface="Arial"/>
              </a:rPr>
              <a:t>Vlaanderen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cc00"/>
                </a:solidFill>
                <a:latin typeface="Arial"/>
              </a:rPr>
              <a:t>de steiger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Inhoudelijk - Wa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Procesmatig - Ho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visie"/>
          <p:cNvPicPr/>
          <p:nvPr/>
        </p:nvPicPr>
        <p:blipFill>
          <a:blip r:embed="rId1"/>
          <a:stretch/>
        </p:blipFill>
        <p:spPr>
          <a:xfrm>
            <a:off x="5076720" y="1989000"/>
            <a:ext cx="2403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Duurzaam wonen en bouw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99cc00"/>
                </a:solidFill>
                <a:latin typeface="Arial"/>
              </a:rPr>
              <a:t>Alle betrokkenen</a:t>
            </a: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 nemen hun </a:t>
            </a:r>
            <a:r>
              <a:rPr b="1" lang="nl-BE" sz="3200" spc="-1" strike="noStrike">
                <a:solidFill>
                  <a:srgbClr val="99cc00"/>
                </a:solidFill>
                <a:latin typeface="Arial"/>
              </a:rPr>
              <a:t>verantwoordelijkheid</a:t>
            </a: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 en werken </a:t>
            </a:r>
            <a:r>
              <a:rPr b="1" lang="nl-BE" sz="3200" spc="-1" strike="noStrike">
                <a:solidFill>
                  <a:srgbClr val="99cc00"/>
                </a:solidFill>
                <a:latin typeface="Arial"/>
              </a:rPr>
              <a:t>samen</a:t>
            </a: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 om evenwicht te bereiken tussen economische, ecologische en sociaal-culturele doelstelli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0:23:29Z</dcterms:created>
  <dc:creator>Annita Gijbels</dc:creator>
  <dc:description/>
  <dc:language>en-US</dc:language>
  <cp:lastModifiedBy>Bénédicte Mercenier</cp:lastModifiedBy>
  <dcterms:modified xsi:type="dcterms:W3CDTF">2014-09-26T06:47:13Z</dcterms:modified>
  <cp:revision>48</cp:revision>
  <dc:subject/>
  <dc:title>Transitie</dc:title>
</cp:coreProperties>
</file>