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wmf" ContentType="image/x-wmf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663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773160" y="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85572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77316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9404-3F68-4BAF-BB58-A906EF43151D}" type="slidenum"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77ED-E61A-4754-8DF3-9EBB7C50F0D2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7C45-A0C5-4A02-A346-80C2B61FA40B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8256-A2EC-4A89-949E-4A3DA942F293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F409-0FAF-4420-A217-4E2264E03454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83CA-2914-467F-8AB5-2DB15D699CF1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07B8-150D-4569-A3CB-7A46C6899141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D2CE-DEF7-4AA7-A965-19F598E7D3FB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0DA6-DCB5-465E-A586-6D679A0AA9C0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D9C2-F821-41C6-8A41-AE4274EB77B1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4D8F-C79C-4CF8-AA61-3ACF63BB614C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D9F3-6F59-42FC-AF7F-35D357A3ABBA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41E4-C60A-458E-A834-7B46FD964AD7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2A21-5B26-4DEB-8291-15360FC6253D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2C78-DC23-487F-BF8D-F68A7E987DDC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F1FA-7AC9-4A46-89A7-0BA6DDADE9A9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49D9-1289-47C5-A4AF-D7B3E5889DD9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75D2-B354-4AC5-82B5-736129979603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8C6E-611E-4FA0-9B5E-444DF92860A5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C7A3-9298-4418-A412-6385279A7A73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13F1-E231-4339-B3C3-6018564918BE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097B-7C37-4511-9D65-8F40824EB64A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12A0-6961-4F58-A1EC-FF302CDDFF9E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87DE-91AB-46BB-8492-8749E68ACFF7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4C84-C10E-4901-AA81-3283A35870A3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4E55-D5C2-4BB1-8B3B-927B11E3F9F6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65280" y="4704840"/>
            <a:ext cx="5332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305A-C7F3-4016-8E59-5378ACD05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55640" y="40255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3599-CC33-4BDB-86F5-CEE00C34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9440" y="191628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55640" y="40255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9440" y="40255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835C-5CDD-4CF6-A6F9-30B83E7C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57720" y="191628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59800" y="191628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55640" y="40255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57720" y="40255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59800" y="40255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F99E-363C-4075-94E8-3E363F730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0EAC-BD6D-4044-8718-2E3D8D8B0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55640" y="191628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7EFF-F887-43BF-9C29-4EB2D4EE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8AF7-F3D8-4263-B3CF-28B4A8F2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9440" y="191628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44D5-DF02-4CC6-964A-7B1EA858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5FF1-15E6-4A72-A11D-E1018A30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AC9C-D3E1-45F9-879F-1C5DCAED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9440" y="191628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55640" y="40255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BF6C-12A8-44F9-BD5B-95246A36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55640" y="191628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FC9E-B1BA-4C8A-BD91-FB3698D1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9440" y="191628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9440" y="40255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C54A-A327-4905-9F23-3E7AE5D4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9440" y="191628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55640" y="40255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ACBD-0F2C-4730-9A19-A119ED64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55640" y="40255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B950-2227-4A3A-8104-24DD3E71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9440" y="191628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55640" y="40255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9440" y="40255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0F07-89B1-4AB6-9731-280EA0949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57720" y="191628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59800" y="191628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55640" y="40255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57720" y="40255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59800" y="40255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7B07-2933-452D-9D2A-B5CD47102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2F5B-0760-41AC-875D-0A095B64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9440" y="191628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C9F8-C84D-42DC-80B5-6437D7B9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E3CF-ED9C-4184-A8FD-70BAA751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B7ED-D7F4-4917-A833-BC6B3C40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9440" y="191628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55640" y="40255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7AB3-84E7-45EA-A954-727B4916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9440" y="191628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9440" y="40255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390A-C0B4-4567-A680-CF8DDB86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9440" y="191628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55640" y="40255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FA82-F14B-4F21-98F8-45470853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"/>
          <p:cNvPicPr/>
          <p:nvPr/>
        </p:nvPicPr>
        <p:blipFill>
          <a:blip r:embed="rId2"/>
          <a:stretch/>
        </p:blipFill>
        <p:spPr>
          <a:xfrm>
            <a:off x="6084720" y="5211720"/>
            <a:ext cx="2535480" cy="949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5640" y="191628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6385-77EE-4237-B114-70F78354687E}" type="slidenum"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7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1371600" y="4365720"/>
            <a:ext cx="6400800" cy="12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2"/>
          <a:stretch/>
        </p:blipFill>
        <p:spPr>
          <a:xfrm>
            <a:off x="2484360" y="765000"/>
            <a:ext cx="4105440" cy="1536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55640" y="191628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C5C3-9413-4B86-90E9-A444AF8D37DB}" type="slidenum"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mailto:a.gijbels@cedubo.be" TargetMode="External"/><Relationship Id="rId2" Type="http://schemas.openxmlformats.org/officeDocument/2006/relationships/hyperlink" Target="http://www.cedubo.be/" TargetMode="External"/><Relationship Id="rId3" Type="http://schemas.openxmlformats.org/officeDocument/2006/relationships/hyperlink" Target="http://www.duwobo.be/" TargetMode="External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3567240"/>
            <a:ext cx="7772400" cy="349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336666"/>
                </a:solidFill>
                <a:latin typeface="Arial Black"/>
              </a:rPr>
              <a:t>VLAANDEREN IN DE STEIGER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763280" y="4797000"/>
            <a:ext cx="5410440" cy="2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99cc00"/>
                </a:solidFill>
                <a:latin typeface="Arial"/>
              </a:rPr>
              <a:t>VISIE OP DUURZAAM WONEN EN BOUWEN IN 2030 EN ACTIE VOOR NU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336666"/>
                </a:solidFill>
                <a:latin typeface="Arial"/>
              </a:rPr>
              <a:t>Batibouw 29/2/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79668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336666"/>
                </a:solidFill>
                <a:latin typeface="Arial Black"/>
              </a:rPr>
              <a:t>Duurzaam wonen en bouwe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691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 u="sng">
                <a:solidFill>
                  <a:srgbClr val="336666"/>
                </a:solidFill>
                <a:uFillTx/>
                <a:latin typeface="Arial"/>
              </a:rPr>
              <a:t>7 ambities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336666"/>
                </a:solidFill>
                <a:latin typeface="Arial"/>
              </a:rPr>
              <a:t>Geïntegreerde bena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336666"/>
                </a:solidFill>
                <a:latin typeface="Arial"/>
              </a:rPr>
              <a:t>Gedeelde verantwoordelijkheid en transparante besluitvo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336666"/>
                </a:solidFill>
                <a:latin typeface="Arial"/>
              </a:rPr>
              <a:t>Hoge kwaliteit van het gebouw en de leefomge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336666"/>
                </a:solidFill>
                <a:latin typeface="Arial"/>
              </a:rPr>
              <a:t>Toegankelijk en sociaal rechtvaar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336666"/>
                </a:solidFill>
                <a:latin typeface="Arial"/>
              </a:rPr>
              <a:t>Balans tussen privaat en collectief gebru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336666"/>
                </a:solidFill>
                <a:latin typeface="Arial"/>
              </a:rPr>
              <a:t>Gesloten kringlopen van stoffen en materia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336666"/>
                </a:solidFill>
                <a:latin typeface="Arial"/>
              </a:rPr>
              <a:t>Economisch gezonde en maatschappelijk verantwoorde bouwse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79668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336666"/>
                </a:solidFill>
                <a:latin typeface="Arial Black"/>
              </a:rPr>
              <a:t>Duurzaam wonen en bouwe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691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 u="sng">
                <a:solidFill>
                  <a:srgbClr val="336666"/>
                </a:solidFill>
                <a:uFillTx/>
                <a:latin typeface="Arial"/>
              </a:rPr>
              <a:t>Wijkniv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Leefbaarheid van grote en kleine kernen: zowel sociaal als economis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Herwaardering voor open ruimte en platt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79668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336666"/>
                </a:solidFill>
                <a:latin typeface="Arial Black"/>
              </a:rPr>
              <a:t>Duurzaam wonen en bouwe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691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 u="sng">
                <a:solidFill>
                  <a:srgbClr val="336666"/>
                </a:solidFill>
                <a:uFillTx/>
                <a:latin typeface="Arial"/>
              </a:rPr>
              <a:t>Gebouwnivea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Zo weinig mogelijk milieu-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Op maat van de gebrui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Toegankelijk voor iedereen: zowel fysiek als soci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79668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336666"/>
                </a:solidFill>
                <a:latin typeface="Arial Black"/>
              </a:rPr>
              <a:t>Werkgroepe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691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spcBef>
                <a:spcPts val="799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Samen leren: vorming en opleid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99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Innovatie en bouwproce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99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Sluit de kring – ener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99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Sluit de kring – materi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99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Levende kernen – wonen voor het 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79668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336666"/>
                </a:solidFill>
                <a:latin typeface="Arial Black"/>
              </a:rPr>
              <a:t>Ambitie voor 2030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691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336666"/>
                </a:solidFill>
                <a:latin typeface="Arial"/>
              </a:rPr>
              <a:t>Uitgebreid netwerk van gespecialiseerde en competente ondernem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336666"/>
                </a:solidFill>
                <a:latin typeface="Arial"/>
              </a:rPr>
              <a:t>Goede informatievoorziening (overheid én onderwij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336666"/>
                </a:solidFill>
                <a:latin typeface="Arial"/>
              </a:rPr>
              <a:t>Kringlopen worden zo kort mogelijk gehouden – afval is tot een minimum beper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79668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336666"/>
                </a:solidFill>
                <a:latin typeface="Arial Black"/>
              </a:rPr>
              <a:t>Ambitie voor 2030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691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336666"/>
                </a:solidFill>
                <a:latin typeface="Arial"/>
              </a:rPr>
              <a:t>Wonen is modulair en aanpasbaar aan de veranderende eisen van de bewoners (eigenaar </a:t>
            </a:r>
            <a:r>
              <a:rPr b="0" lang="nl-BE" sz="2800" spc="-1" strike="noStrike">
                <a:solidFill>
                  <a:srgbClr val="336666"/>
                </a:solidFill>
                <a:latin typeface="Arial"/>
                <a:ea typeface="Arial"/>
              </a:rPr>
              <a:t>→</a:t>
            </a:r>
            <a:r>
              <a:rPr b="0" lang="nl-BE" sz="2800" spc="-1" strike="noStrike">
                <a:solidFill>
                  <a:srgbClr val="336666"/>
                </a:solidFill>
                <a:latin typeface="Arial"/>
              </a:rPr>
              <a:t> huurde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336666"/>
                </a:solidFill>
                <a:latin typeface="Arial"/>
              </a:rPr>
              <a:t>De woonomgeving is gebruiksvriendelijk, leefbaar en toegankelij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336666"/>
                </a:solidFill>
                <a:latin typeface="Arial"/>
              </a:rPr>
              <a:t>De woningen voldoen aan het milieupe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336666"/>
                </a:solidFill>
                <a:latin typeface="Arial"/>
              </a:rPr>
              <a:t>Het bouwproces is transpar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79668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336666"/>
                </a:solidFill>
                <a:latin typeface="Arial Black"/>
              </a:rPr>
              <a:t>Ambitie voor 2030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691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Een snelle en efficiënte omschakeling van de huidige situatie naar deze streefbeelden kan enkel bekomen worden door een </a:t>
            </a:r>
            <a:r>
              <a:rPr b="1" lang="nl-BE" sz="3200" spc="-1" strike="noStrike">
                <a:solidFill>
                  <a:srgbClr val="99cc00"/>
                </a:solidFill>
                <a:latin typeface="Arial"/>
              </a:rPr>
              <a:t>transitie</a:t>
            </a: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79668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336666"/>
                </a:solidFill>
                <a:latin typeface="Arial Black"/>
              </a:rPr>
              <a:t>Transitie - experimente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691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 u="sng">
                <a:solidFill>
                  <a:srgbClr val="336666"/>
                </a:solidFill>
                <a:uFillTx/>
                <a:latin typeface="Arial"/>
              </a:rPr>
              <a:t>Bv. Diepenbeek – Dorpheide I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336666"/>
                </a:solidFill>
                <a:latin typeface="Arial"/>
              </a:rPr>
              <a:t>Steunpunt DUBO Lim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336666"/>
                </a:solidFill>
                <a:latin typeface="Arial"/>
              </a:rPr>
              <a:t>Verkoopsovereenkomst met voorwaarde fase 1 – E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336666"/>
                </a:solidFill>
                <a:latin typeface="Arial"/>
              </a:rPr>
              <a:t>De kopers zijn bereid om verder te gaan dan E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336666"/>
                </a:solidFill>
                <a:latin typeface="Arial"/>
              </a:rPr>
              <a:t>Nieuwe verkaveling met strengere voorwaarden voor fase 2 – E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012000" y="1773360"/>
            <a:ext cx="295092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79668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336666"/>
                </a:solidFill>
                <a:latin typeface="Arial Black"/>
              </a:rPr>
              <a:t>Transitie - experimente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691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Aanvrager: gemeente Diepenb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Meetl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900" spc="-1" strike="noStrike">
                <a:solidFill>
                  <a:srgbClr val="000000"/>
                </a:solidFill>
                <a:latin typeface="Arial"/>
              </a:rPr>
              <a:t>Fase 1: 11 percel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500" spc="-1" strike="noStrike">
                <a:solidFill>
                  <a:srgbClr val="000000"/>
                </a:solidFill>
                <a:latin typeface="Arial"/>
              </a:rPr>
              <a:t>Suggesties Meetl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500" spc="-1" strike="noStrike">
                <a:solidFill>
                  <a:srgbClr val="000000"/>
                </a:solidFill>
                <a:latin typeface="Arial"/>
              </a:rPr>
              <a:t>Verkoopsovereenkom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ebruik hemel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x. E-peil 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900" spc="-1" strike="noStrike">
                <a:solidFill>
                  <a:srgbClr val="000000"/>
                </a:solidFill>
                <a:latin typeface="Arial"/>
              </a:rPr>
              <a:t>Fase 2: 34 percel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500" spc="-1" strike="noStrike">
                <a:solidFill>
                  <a:srgbClr val="000000"/>
                </a:solidFill>
                <a:latin typeface="Arial"/>
              </a:rPr>
              <a:t>INTERREG projectvoorst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500" spc="-1" strike="noStrike">
                <a:solidFill>
                  <a:srgbClr val="000000"/>
                </a:solidFill>
                <a:latin typeface="Arial"/>
              </a:rPr>
              <a:t>Demonstratieproject duurzame energie (E60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500" spc="-1" strike="noStrike">
                <a:solidFill>
                  <a:srgbClr val="000000"/>
                </a:solidFill>
                <a:latin typeface="Arial"/>
              </a:rPr>
              <a:t>KHLim, PHL, UHasselt, Steunpu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500" spc="-1" strike="noStrike">
                <a:solidFill>
                  <a:srgbClr val="000000"/>
                </a:solidFill>
                <a:latin typeface="Arial"/>
              </a:rPr>
              <a:t>Interesse van private partne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tatus: lope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6012000" y="2205000"/>
            <a:ext cx="2736720" cy="2247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banner_meetlat_flat"/>
          <p:cNvPicPr/>
          <p:nvPr/>
        </p:nvPicPr>
        <p:blipFill>
          <a:blip r:embed="rId2"/>
          <a:stretch/>
        </p:blipFill>
        <p:spPr>
          <a:xfrm>
            <a:off x="1042920" y="5300640"/>
            <a:ext cx="7596360" cy="9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79668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336666"/>
                </a:solidFill>
                <a:latin typeface="Arial Black"/>
              </a:rPr>
              <a:t>Transitie - experimente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691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336666"/>
                </a:solidFill>
                <a:uFillTx/>
                <a:latin typeface="Arial"/>
              </a:rPr>
              <a:t>Bv. Advies voor stadsvernieuwingsprojec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336666"/>
                </a:solidFill>
                <a:latin typeface="Arial"/>
              </a:rPr>
              <a:t>35 aandachtspunten voor sv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336666"/>
                </a:solidFill>
                <a:latin typeface="Arial"/>
              </a:rPr>
              <a:t>NGO’s met expertise in verschillende discip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336666"/>
                </a:solidFill>
                <a:latin typeface="Arial"/>
              </a:rPr>
              <a:t>Leidraad voor advies aan s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336666"/>
                </a:solidFill>
                <a:latin typeface="Arial"/>
              </a:rPr>
              <a:t>Projectvoorst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336666"/>
                </a:solidFill>
                <a:latin typeface="Arial"/>
              </a:rPr>
              <a:t>1 coördinerende NGO + 3 adviserende NG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79668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336666"/>
                </a:solidFill>
                <a:latin typeface="Arial Black"/>
              </a:rPr>
              <a:t>Transitie duwobo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691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100" spc="-1" strike="noStrike">
                <a:solidFill>
                  <a:srgbClr val="336666"/>
                </a:solidFill>
                <a:latin typeface="Arial"/>
              </a:rPr>
              <a:t>Transitie</a:t>
            </a: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een </a:t>
            </a:r>
            <a:r>
              <a:rPr b="1" lang="nl-BE" sz="3100" spc="-1" strike="noStrike" u="sng">
                <a:solidFill>
                  <a:srgbClr val="336666"/>
                </a:solidFill>
                <a:uFillTx/>
                <a:latin typeface="Arial"/>
              </a:rPr>
              <a:t>radicale</a:t>
            </a:r>
            <a:r>
              <a:rPr b="0" lang="nl-BE" sz="3100" spc="-1" strike="noStrike" u="sng">
                <a:solidFill>
                  <a:srgbClr val="336666"/>
                </a:solidFill>
                <a:uFillTx/>
                <a:latin typeface="Arial"/>
              </a:rPr>
              <a:t> </a:t>
            </a:r>
            <a:r>
              <a:rPr b="1" lang="nl-BE" sz="3100" spc="-1" strike="noStrike" u="sng">
                <a:solidFill>
                  <a:srgbClr val="336666"/>
                </a:solidFill>
                <a:uFillTx/>
                <a:latin typeface="Arial"/>
              </a:rPr>
              <a:t>verandering</a:t>
            </a: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 naar duurzamer wonen en bouwen waarbij </a:t>
            </a:r>
            <a:r>
              <a:rPr b="1" lang="nl-BE" sz="3200" spc="-1" strike="noStrike" u="sng">
                <a:solidFill>
                  <a:srgbClr val="336666"/>
                </a:solidFill>
                <a:uFillTx/>
                <a:latin typeface="Arial"/>
              </a:rPr>
              <a:t>alle actoren</a:t>
            </a: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 betrokken zij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100" spc="-1" strike="noStrike">
                <a:solidFill>
                  <a:srgbClr val="336666"/>
                </a:solidFill>
                <a:latin typeface="Arial"/>
              </a:rPr>
              <a:t>Lange termijnvisi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100" spc="-1" strike="noStrike">
                <a:solidFill>
                  <a:srgbClr val="336666"/>
                </a:solidFill>
                <a:latin typeface="Arial"/>
              </a:rPr>
              <a:t>Leren door experimentere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100" spc="-1" strike="noStrike">
                <a:solidFill>
                  <a:srgbClr val="336666"/>
                </a:solidFill>
                <a:latin typeface="Arial"/>
              </a:rPr>
              <a:t>Multiplicatoreffec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79668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336666"/>
                </a:solidFill>
                <a:latin typeface="Arial Black"/>
              </a:rPr>
              <a:t>Transitie - experimente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691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336666"/>
                </a:solidFill>
                <a:latin typeface="Arial"/>
              </a:rPr>
              <a:t>De transitie – arena: </a:t>
            </a:r>
            <a:r>
              <a:rPr b="0" lang="nl-BE" sz="2800" spc="-1" strike="noStrike">
                <a:solidFill>
                  <a:srgbClr val="336666"/>
                </a:solidFill>
                <a:latin typeface="Arial"/>
              </a:rPr>
              <a:t>(23/4/200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336666"/>
                </a:solidFill>
                <a:latin typeface="Arial"/>
              </a:rPr>
              <a:t>Zoekt 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336666"/>
                </a:solidFill>
                <a:latin typeface="Arial"/>
              </a:rPr>
              <a:t>Helpt coalities te bewerkstell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336666"/>
                </a:solidFill>
                <a:latin typeface="Arial"/>
              </a:rPr>
              <a:t>Biedt hulp bij het zoeken van financi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336666"/>
                </a:solidFill>
                <a:latin typeface="Arial"/>
              </a:rPr>
              <a:t>Verspreidt de result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79668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336666"/>
                </a:solidFill>
                <a:latin typeface="Arial Black"/>
              </a:rPr>
              <a:t>In de toekomst zal…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691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het renoveren/aanpassen van bestaande woningen belangrijker wo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het ontwerp van een nieuwe woning, een nieuwe wijk of een stad meer doordacht gebeur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79668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336666"/>
                </a:solidFill>
                <a:latin typeface="Arial Black"/>
              </a:rPr>
              <a:t>In de toekomst …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691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336666"/>
                </a:solidFill>
                <a:latin typeface="Arial"/>
              </a:rPr>
              <a:t>Ruimtelijke versnippering maakt plaats voor ruimtelijke orde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367272_603_1118819872464-groenbeleidsplanoverzicht"/>
          <p:cNvPicPr/>
          <p:nvPr/>
        </p:nvPicPr>
        <p:blipFill>
          <a:blip r:embed="rId1"/>
          <a:stretch/>
        </p:blipFill>
        <p:spPr>
          <a:xfrm>
            <a:off x="611280" y="3933720"/>
            <a:ext cx="2232000" cy="1884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sloterplas4"/>
          <p:cNvPicPr/>
          <p:nvPr/>
        </p:nvPicPr>
        <p:blipFill>
          <a:blip r:embed="rId2"/>
          <a:stretch/>
        </p:blipFill>
        <p:spPr>
          <a:xfrm>
            <a:off x="3924360" y="3068640"/>
            <a:ext cx="3311640" cy="260208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8"/>
          <p:cNvSpPr/>
          <p:nvPr/>
        </p:nvSpPr>
        <p:spPr>
          <a:xfrm>
            <a:off x="3059280" y="4508640"/>
            <a:ext cx="718920" cy="792000"/>
          </a:xfrm>
          <a:custGeom>
            <a:avLst/>
            <a:gdLst>
              <a:gd name="textAreaLeft" fmla="*/ 112320 w 718920"/>
              <a:gd name="textAreaRight" fmla="*/ 629280 w 71892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7cd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79668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336666"/>
                </a:solidFill>
                <a:latin typeface="Arial Black"/>
              </a:rPr>
              <a:t>In de toekomst …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691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336666"/>
                </a:solidFill>
                <a:latin typeface="Arial"/>
              </a:rPr>
              <a:t>leefbare wij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3419640" y="4508640"/>
            <a:ext cx="718920" cy="792000"/>
          </a:xfrm>
          <a:custGeom>
            <a:avLst/>
            <a:gdLst>
              <a:gd name="textAreaLeft" fmla="*/ 112320 w 718920"/>
              <a:gd name="textAreaRight" fmla="*/ 629280 w 71892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7cd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vliegtuig021"/>
          <p:cNvPicPr/>
          <p:nvPr/>
        </p:nvPicPr>
        <p:blipFill>
          <a:blip r:embed="rId1"/>
          <a:stretch/>
        </p:blipFill>
        <p:spPr>
          <a:xfrm>
            <a:off x="4356000" y="2133720"/>
            <a:ext cx="2556000" cy="3527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klushuizen-2"/>
          <p:cNvPicPr/>
          <p:nvPr/>
        </p:nvPicPr>
        <p:blipFill>
          <a:blip r:embed="rId2"/>
          <a:stretch/>
        </p:blipFill>
        <p:spPr>
          <a:xfrm>
            <a:off x="250920" y="3429000"/>
            <a:ext cx="29350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79668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336666"/>
                </a:solidFill>
                <a:latin typeface="Arial Black"/>
              </a:rPr>
              <a:t>In de toekomst …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691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336666"/>
                </a:solidFill>
                <a:latin typeface="Arial"/>
              </a:rPr>
              <a:t>duurzame en comfortabele won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4067280" y="4221000"/>
            <a:ext cx="718920" cy="792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98000 h 792360"/>
              <a:gd name="textAreaBottom" fmla="*/ 594360 h 792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7cd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1" descr="dworp%20voor"/>
          <p:cNvPicPr/>
          <p:nvPr/>
        </p:nvPicPr>
        <p:blipFill>
          <a:blip r:embed="rId1"/>
          <a:srcRect l="0" t="0" r="0" b="1512"/>
          <a:stretch/>
        </p:blipFill>
        <p:spPr>
          <a:xfrm>
            <a:off x="900000" y="3284640"/>
            <a:ext cx="2772000" cy="1830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overzicht"/>
          <p:cNvPicPr/>
          <p:nvPr/>
        </p:nvPicPr>
        <p:blipFill>
          <a:blip r:embed="rId2"/>
          <a:stretch/>
        </p:blipFill>
        <p:spPr>
          <a:xfrm>
            <a:off x="4859280" y="2708280"/>
            <a:ext cx="378000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79668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336666"/>
                </a:solidFill>
                <a:latin typeface="Arial Black"/>
              </a:rPr>
              <a:t>Samen kunnen we verder gaan…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136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336666"/>
                </a:solidFill>
                <a:latin typeface="Arial"/>
              </a:rPr>
              <a:t>  </a:t>
            </a:r>
            <a:r>
              <a:rPr b="1" lang="nl-BE" sz="3200" spc="-1" strike="noStrike">
                <a:solidFill>
                  <a:srgbClr val="336666"/>
                </a:solidFill>
                <a:latin typeface="Arial"/>
              </a:rPr>
              <a:t>Transitie duurzaam wonen en bo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Annita Gijb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99cc00"/>
                </a:solidFill>
                <a:uFillTx/>
                <a:latin typeface="Arial"/>
                <a:hlinkClick r:id="rId1"/>
              </a:rPr>
              <a:t>a.gijbels@cedubo.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99cc00"/>
                </a:solidFill>
                <a:uFillTx/>
                <a:latin typeface="Arial"/>
                <a:hlinkClick r:id="rId2"/>
              </a:rPr>
              <a:t>www.cedubo.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www.duwobo.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cdb-huisje - briefhoofd"/>
          <p:cNvPicPr/>
          <p:nvPr/>
        </p:nvPicPr>
        <p:blipFill>
          <a:blip r:embed="rId4"/>
          <a:stretch/>
        </p:blipFill>
        <p:spPr>
          <a:xfrm>
            <a:off x="4356000" y="4005360"/>
            <a:ext cx="1219320" cy="1224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image_mini"/>
          <p:cNvPicPr/>
          <p:nvPr/>
        </p:nvPicPr>
        <p:blipFill>
          <a:blip r:embed="rId5"/>
          <a:stretch/>
        </p:blipFill>
        <p:spPr>
          <a:xfrm>
            <a:off x="6227640" y="4005360"/>
            <a:ext cx="190512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79668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336666"/>
                </a:solidFill>
                <a:latin typeface="Arial Black"/>
              </a:rPr>
              <a:t>Transitie duwobo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691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Duurzame ontwikk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Knelpu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Duurzaam wonen en bo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Werkgroepen - experime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Ambitie voor 20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79668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336666"/>
                </a:solidFill>
                <a:latin typeface="Arial Black"/>
              </a:rPr>
              <a:t>Duurzame ontwikkeling - bouw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691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Gezonde, veilige en sociale woonomgeving (</a:t>
            </a:r>
            <a:r>
              <a:rPr b="0" lang="nl-BE" sz="3200" spc="-1" strike="noStrike">
                <a:solidFill>
                  <a:srgbClr val="99cc00"/>
                </a:solidFill>
                <a:latin typeface="Arial"/>
              </a:rPr>
              <a:t>sociaal-cultureel</a:t>
            </a: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Woning met geringe impact op het milieu (</a:t>
            </a:r>
            <a:r>
              <a:rPr b="0" lang="nl-BE" sz="3200" spc="-1" strike="noStrike">
                <a:solidFill>
                  <a:srgbClr val="99cc00"/>
                </a:solidFill>
                <a:latin typeface="Arial"/>
              </a:rPr>
              <a:t>ecologisch</a:t>
            </a: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Woning op maat van de behoeften van de bewoners (</a:t>
            </a:r>
            <a:r>
              <a:rPr b="0" lang="nl-BE" sz="3200" spc="-1" strike="noStrike">
                <a:solidFill>
                  <a:srgbClr val="99cc00"/>
                </a:solidFill>
                <a:latin typeface="Arial"/>
              </a:rPr>
              <a:t>economisch</a:t>
            </a: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79668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336666"/>
                </a:solidFill>
                <a:latin typeface="Arial Black"/>
              </a:rPr>
              <a:t>Duurzame ontwikkeling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691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Er is een radicale verandering nodi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Cul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Struc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Werkwij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79668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336666"/>
                </a:solidFill>
                <a:latin typeface="Arial Black"/>
              </a:rPr>
              <a:t>Knelpunte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691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84280" indent="-5842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336666"/>
                </a:solidFill>
                <a:latin typeface="Arial"/>
              </a:rPr>
              <a:t>Individualistische en starre wooncultuur: hoog percentage honkvaste eigena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336666"/>
                </a:solidFill>
                <a:latin typeface="Arial"/>
              </a:rPr>
              <a:t>Beperkte flexibiliteit in de bouwcultuur: economische overweging speelt in op korte termijn vra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336666"/>
                </a:solidFill>
                <a:latin typeface="Arial"/>
              </a:rPr>
              <a:t>Geringe participatie is een drempel voor duurzame systeeminnov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336666"/>
                </a:solidFill>
                <a:latin typeface="Arial"/>
              </a:rPr>
              <a:t>Tekort aan betaalbare, kwaliteitsvolle, gezonde en veilige won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336666"/>
                </a:solidFill>
                <a:latin typeface="Arial"/>
              </a:rPr>
              <a:t>Verminderd sociaal buurtnet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79668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336666"/>
                </a:solidFill>
                <a:latin typeface="Arial Black"/>
              </a:rPr>
              <a:t>Knelpunte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691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336666"/>
                </a:solidFill>
                <a:latin typeface="Arial"/>
              </a:rPr>
              <a:t>Te weinig zorgaspecten in het wonen met als gevolg fysieke ontoegankelijkheid, onvoldoende onderhou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336666"/>
                </a:solidFill>
                <a:latin typeface="Arial"/>
              </a:rPr>
              <a:t>Geen coherent overheidsbeleid door versnipperde bevoegd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336666"/>
                </a:solidFill>
                <a:latin typeface="Arial"/>
              </a:rPr>
              <a:t>Eindige beschikbare ruim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336666"/>
                </a:solidFill>
                <a:latin typeface="Arial"/>
              </a:rPr>
              <a:t>Geen afstemming van wonen en bouwen met de draagkracht van het milieu: stijgend gebruik van natuurlijke bro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336666"/>
                </a:solidFill>
                <a:latin typeface="Arial"/>
              </a:rPr>
              <a:t>Ruimte en voorzieningen zijn bepalend bij de keuze van de locatie: prijzen stij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79668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336666"/>
                </a:solidFill>
                <a:latin typeface="Arial Black"/>
              </a:rPr>
              <a:t>Duurzaam wonen en bouwe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691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 u="sng">
                <a:solidFill>
                  <a:srgbClr val="99cc00"/>
                </a:solidFill>
                <a:uFillTx/>
                <a:latin typeface="Arial"/>
              </a:rPr>
              <a:t>Visi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99cc00"/>
                </a:solidFill>
                <a:latin typeface="Arial"/>
              </a:rPr>
              <a:t>“</a:t>
            </a:r>
            <a:r>
              <a:rPr b="1" lang="nl-BE" sz="3600" spc="-1" strike="noStrike">
                <a:solidFill>
                  <a:srgbClr val="99cc00"/>
                </a:solidFill>
                <a:latin typeface="Arial"/>
              </a:rPr>
              <a:t>Vlaanderen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99cc00"/>
                </a:solidFill>
                <a:latin typeface="Arial"/>
              </a:rPr>
              <a:t>de steiger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Inhoudelijk - Wa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Procesmatig - Ho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visie"/>
          <p:cNvPicPr/>
          <p:nvPr/>
        </p:nvPicPr>
        <p:blipFill>
          <a:blip r:embed="rId1"/>
          <a:stretch/>
        </p:blipFill>
        <p:spPr>
          <a:xfrm>
            <a:off x="5076720" y="1989000"/>
            <a:ext cx="24037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79668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336666"/>
                </a:solidFill>
                <a:latin typeface="Arial Black"/>
              </a:rPr>
              <a:t>Duurzaam wonen en bouwe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691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99cc00"/>
                </a:solidFill>
                <a:latin typeface="Arial"/>
              </a:rPr>
              <a:t>Alle betrokkenen</a:t>
            </a: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 nemen hun </a:t>
            </a:r>
            <a:r>
              <a:rPr b="1" lang="nl-BE" sz="3200" spc="-1" strike="noStrike">
                <a:solidFill>
                  <a:srgbClr val="99cc00"/>
                </a:solidFill>
                <a:latin typeface="Arial"/>
              </a:rPr>
              <a:t>verantwoordelijkheid</a:t>
            </a: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 en werken </a:t>
            </a:r>
            <a:r>
              <a:rPr b="1" lang="nl-BE" sz="3200" spc="-1" strike="noStrike">
                <a:solidFill>
                  <a:srgbClr val="99cc00"/>
                </a:solidFill>
                <a:latin typeface="Arial"/>
              </a:rPr>
              <a:t>samen</a:t>
            </a:r>
            <a:r>
              <a:rPr b="0" lang="nl-BE" sz="3200" spc="-1" strike="noStrike">
                <a:solidFill>
                  <a:srgbClr val="336666"/>
                </a:solidFill>
                <a:latin typeface="Arial"/>
              </a:rPr>
              <a:t> om evenwicht te bereiken tussen economische, ecologische en sociaal-culturele doelstellin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10:23:29Z</dcterms:created>
  <dc:creator>Annita Gijbels</dc:creator>
  <dc:description/>
  <dc:language>en-US</dc:language>
  <cp:lastModifiedBy>Bénédicte Mercenier</cp:lastModifiedBy>
  <dcterms:modified xsi:type="dcterms:W3CDTF">2014-09-26T06:47:13Z</dcterms:modified>
  <cp:revision>48</cp:revision>
  <dc:subject/>
  <dc:title>Transitie</dc:title>
</cp:coreProperties>
</file>